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032600" y="66564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900cc"/>
                </a:solidFill>
                <a:latin typeface="Arial"/>
              </a:rPr>
              <a:t>© Boardworks Ltd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7236000" cy="218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32600" y="66564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900cc"/>
                </a:solidFill>
                <a:latin typeface="Arial"/>
              </a:rPr>
              <a:t>© Boardworks Ltd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9440" y="773280"/>
            <a:ext cx="5578560" cy="5578200"/>
          </a:xfrm>
          <a:prstGeom prst="ellipse">
            <a:avLst/>
          </a:prstGeom>
          <a:solidFill>
            <a:srgbClr val="01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5065560" cy="505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76920" y="313560"/>
            <a:ext cx="4861800" cy="731160"/>
          </a:xfrm>
          <a:prstGeom prst="rect">
            <a:avLst/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S4 Chemistry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20880" y="4997520"/>
            <a:ext cx="5288400" cy="750960"/>
          </a:xfrm>
          <a:prstGeom prst="rect">
            <a:avLst/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137200" y="466560"/>
            <a:ext cx="2266920" cy="2267280"/>
            <a:chOff x="5137200" y="466560"/>
            <a:chExt cx="2266920" cy="2267280"/>
          </a:xfrm>
        </p:grpSpPr>
        <p:sp>
          <p:nvSpPr>
            <p:cNvPr id="91" name=""/>
            <p:cNvSpPr/>
            <p:nvPr/>
          </p:nvSpPr>
          <p:spPr>
            <a:xfrm>
              <a:off x="5137200" y="466560"/>
              <a:ext cx="2266920" cy="226728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305320" y="628920"/>
              <a:ext cx="1942560" cy="194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5508720" y="2575080"/>
            <a:ext cx="2266920" cy="2266920"/>
            <a:chOff x="5508720" y="2575080"/>
            <a:chExt cx="2266920" cy="2266920"/>
          </a:xfrm>
        </p:grpSpPr>
        <p:sp>
          <p:nvSpPr>
            <p:cNvPr id="94" name=""/>
            <p:cNvSpPr/>
            <p:nvPr/>
          </p:nvSpPr>
          <p:spPr>
            <a:xfrm>
              <a:off x="5508720" y="2575080"/>
              <a:ext cx="2266920" cy="226692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676840" y="2737440"/>
              <a:ext cx="1942560" cy="194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ositions of similar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5084640"/>
            <a:ext cx="7848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ow many elements are there from on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reactive metal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o the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3860640"/>
            <a:ext cx="7561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ow many elements are there from on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reactive ga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o the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43000" y="2705040"/>
            <a:ext cx="8672400" cy="459000"/>
            <a:chOff x="243000" y="2705040"/>
            <a:chExt cx="8672400" cy="459000"/>
          </a:xfrm>
        </p:grpSpPr>
        <p:sp>
          <p:nvSpPr>
            <p:cNvPr id="246" name=""/>
            <p:cNvSpPr/>
            <p:nvPr/>
          </p:nvSpPr>
          <p:spPr>
            <a:xfrm>
              <a:off x="8458200" y="2705040"/>
              <a:ext cx="45720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3000" y="2706840"/>
              <a:ext cx="45720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8560" y="2705040"/>
              <a:ext cx="45720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00600" y="2705040"/>
              <a:ext cx="45720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2072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57800" y="270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70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940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9736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5456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8660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3800" y="2705040"/>
              <a:ext cx="45720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11760" y="2705040"/>
              <a:ext cx="45720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68960" y="27050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01000" y="27050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7220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8120" y="27050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8116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4016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46240" y="3162240"/>
            <a:ext cx="8669160" cy="459000"/>
            <a:chOff x="246240" y="3162240"/>
            <a:chExt cx="8669160" cy="459000"/>
          </a:xfrm>
        </p:grpSpPr>
        <p:sp>
          <p:nvSpPr>
            <p:cNvPr id="266" name=""/>
            <p:cNvSpPr/>
            <p:nvPr/>
          </p:nvSpPr>
          <p:spPr>
            <a:xfrm>
              <a:off x="8458200" y="3162240"/>
              <a:ext cx="457200" cy="4572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6240" y="3164040"/>
              <a:ext cx="4572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63520" y="3162240"/>
              <a:ext cx="457200" cy="4572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00600" y="3162240"/>
              <a:ext cx="457200" cy="4572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31640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15000" y="31640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29400" y="31622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9736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5456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86600" y="31622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43800" y="3162240"/>
              <a:ext cx="4572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11760" y="3162240"/>
              <a:ext cx="4572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68960" y="31622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01000" y="31622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72200" y="31622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6320" y="31622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8440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4016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411280" y="4292640"/>
            <a:ext cx="40032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11280" y="5516640"/>
            <a:ext cx="40032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88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7398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ompare the positions of similar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36680" y="1268280"/>
            <a:ext cx="2514600" cy="432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ctiv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56000" y="1700280"/>
            <a:ext cx="1584360" cy="9367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1700280"/>
            <a:ext cx="5113440" cy="9367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68000" y="1700280"/>
            <a:ext cx="2087640" cy="9367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92720" y="1268280"/>
            <a:ext cx="25923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ctive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1700280"/>
            <a:ext cx="2087640" cy="936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403280" y="1700280"/>
            <a:ext cx="5184720" cy="936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076720" y="1700280"/>
            <a:ext cx="1511280" cy="936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0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rranging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0360" y="38131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rranging these strips in r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303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7524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ivide the elements at set intervals, arrange them according to their properties and what patterns do you s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3800" y="1776240"/>
            <a:ext cx="129528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43000" y="2705040"/>
            <a:ext cx="8672400" cy="459000"/>
            <a:chOff x="243000" y="2705040"/>
            <a:chExt cx="8672400" cy="459000"/>
          </a:xfrm>
        </p:grpSpPr>
        <p:sp>
          <p:nvSpPr>
            <p:cNvPr id="309" name=""/>
            <p:cNvSpPr/>
            <p:nvPr/>
          </p:nvSpPr>
          <p:spPr>
            <a:xfrm>
              <a:off x="8458200" y="2705040"/>
              <a:ext cx="45720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000" y="2706840"/>
              <a:ext cx="45720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8560" y="2705040"/>
              <a:ext cx="45720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00600" y="2705040"/>
              <a:ext cx="45720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2072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57800" y="270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5000" y="270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940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9736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456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8660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43800" y="2705040"/>
              <a:ext cx="45720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11760" y="2705040"/>
              <a:ext cx="45720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68960" y="27050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01000" y="27050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7220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8120" y="27050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8116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40160" y="2705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46240" y="3162240"/>
            <a:ext cx="8669160" cy="459000"/>
            <a:chOff x="246240" y="3162240"/>
            <a:chExt cx="8669160" cy="459000"/>
          </a:xfrm>
        </p:grpSpPr>
        <p:sp>
          <p:nvSpPr>
            <p:cNvPr id="329" name=""/>
            <p:cNvSpPr/>
            <p:nvPr/>
          </p:nvSpPr>
          <p:spPr>
            <a:xfrm>
              <a:off x="8458200" y="3162240"/>
              <a:ext cx="457200" cy="4572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6240" y="3164040"/>
              <a:ext cx="4572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63520" y="3162240"/>
              <a:ext cx="457200" cy="4572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00600" y="3162240"/>
              <a:ext cx="457200" cy="4572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2396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7800" y="31640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15000" y="31640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29400" y="31622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9736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5456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86600" y="31622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43800" y="3162240"/>
              <a:ext cx="4572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11760" y="3162240"/>
              <a:ext cx="4572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8960" y="31622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1622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3162240"/>
              <a:ext cx="45720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6320" y="31622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8440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40160" y="3162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8448840" y="2276280"/>
            <a:ext cx="1800" cy="397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24360" y="1763640"/>
            <a:ext cx="129528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29400" y="2263320"/>
            <a:ext cx="1800" cy="397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280" y="1751040"/>
            <a:ext cx="129564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65680" y="2250720"/>
            <a:ext cx="1800" cy="397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803680" y="5324400"/>
            <a:ext cx="3530520" cy="387360"/>
            <a:chOff x="2803680" y="5324400"/>
            <a:chExt cx="3530520" cy="387360"/>
          </a:xfrm>
        </p:grpSpPr>
        <p:sp>
          <p:nvSpPr>
            <p:cNvPr id="354" name=""/>
            <p:cNvSpPr/>
            <p:nvPr/>
          </p:nvSpPr>
          <p:spPr>
            <a:xfrm>
              <a:off x="2803680" y="5324400"/>
              <a:ext cx="441360" cy="3873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45040" y="5324400"/>
              <a:ext cx="441360" cy="387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86400" y="5324400"/>
              <a:ext cx="441360" cy="387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69120" y="5324400"/>
              <a:ext cx="441360" cy="387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10480" y="5324400"/>
              <a:ext cx="441000" cy="387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51480" y="5324400"/>
              <a:ext cx="441360" cy="3873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92840" y="5324400"/>
              <a:ext cx="441360" cy="387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27760" y="5324400"/>
              <a:ext cx="441360" cy="387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460840" y="4292640"/>
            <a:ext cx="866880" cy="407880"/>
            <a:chOff x="5460840" y="4292640"/>
            <a:chExt cx="866880" cy="407880"/>
          </a:xfrm>
        </p:grpSpPr>
        <p:sp>
          <p:nvSpPr>
            <p:cNvPr id="363" name=""/>
            <p:cNvSpPr/>
            <p:nvPr/>
          </p:nvSpPr>
          <p:spPr>
            <a:xfrm>
              <a:off x="5460840" y="4292640"/>
              <a:ext cx="443160" cy="407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96080" y="4294080"/>
              <a:ext cx="431640" cy="406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819520" y="4816440"/>
            <a:ext cx="3511440" cy="368280"/>
            <a:chOff x="2819520" y="4816440"/>
            <a:chExt cx="3511440" cy="368280"/>
          </a:xfrm>
        </p:grpSpPr>
        <p:sp>
          <p:nvSpPr>
            <p:cNvPr id="366" name=""/>
            <p:cNvSpPr/>
            <p:nvPr/>
          </p:nvSpPr>
          <p:spPr>
            <a:xfrm>
              <a:off x="2819520" y="4816440"/>
              <a:ext cx="43812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7640" y="4816440"/>
              <a:ext cx="43812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78480" y="4816440"/>
              <a:ext cx="43812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16600" y="4816440"/>
              <a:ext cx="43812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54720" y="4816440"/>
              <a:ext cx="43812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92840" y="4816440"/>
              <a:ext cx="438120" cy="3682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97560" y="4816440"/>
              <a:ext cx="43812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40360" y="4816440"/>
              <a:ext cx="43812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800440" y="5818320"/>
            <a:ext cx="439560" cy="385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8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 flipV="1">
            <a:off x="3402000" y="3696840"/>
            <a:ext cx="0" cy="468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4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rranging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93920" y="3230640"/>
            <a:ext cx="45720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18440" y="1849320"/>
            <a:ext cx="4572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193920" y="2765520"/>
            <a:ext cx="3678480" cy="465120"/>
            <a:chOff x="3193920" y="2765520"/>
            <a:chExt cx="3678480" cy="465120"/>
          </a:xfrm>
        </p:grpSpPr>
        <p:sp>
          <p:nvSpPr>
            <p:cNvPr id="380" name=""/>
            <p:cNvSpPr/>
            <p:nvPr/>
          </p:nvSpPr>
          <p:spPr>
            <a:xfrm>
              <a:off x="4122720" y="2765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37120" y="27687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4320" y="277020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79920" y="27687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65520" y="27687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93920" y="2773440"/>
              <a:ext cx="45720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15200" y="277164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61240" y="2771640"/>
              <a:ext cx="45720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93920" y="2306520"/>
            <a:ext cx="3681720" cy="462240"/>
            <a:chOff x="3193920" y="2306520"/>
            <a:chExt cx="3681720" cy="462240"/>
          </a:xfrm>
        </p:grpSpPr>
        <p:sp>
          <p:nvSpPr>
            <p:cNvPr id="389" name=""/>
            <p:cNvSpPr/>
            <p:nvPr/>
          </p:nvSpPr>
          <p:spPr>
            <a:xfrm>
              <a:off x="3665520" y="23115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37120" y="23097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94320" y="23097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22720" y="23097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9920" y="23115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93920" y="2311560"/>
              <a:ext cx="45720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18440" y="2306520"/>
              <a:ext cx="457200" cy="457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61240" y="2308320"/>
              <a:ext cx="45720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398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1280" y="7524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elements are arranged according to their properties what patterns do you see and what element is m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58920" y="4102200"/>
            <a:ext cx="14414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1640" y="4102200"/>
            <a:ext cx="17272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rea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038560" y="4102200"/>
            <a:ext cx="1368720" cy="792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191280" y="3232080"/>
            <a:ext cx="0" cy="860400"/>
          </a:xfrm>
          <a:prstGeom prst="line">
            <a:avLst/>
          </a:prstGeom>
          <a:ln w="63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7360" y="50529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imilar element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go into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ame colum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1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640" y="551664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ydroge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s an exception. This reactive gas is best positioned above the reactive 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8320" y="1725480"/>
            <a:ext cx="457200" cy="457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675480" y="3236760"/>
            <a:ext cx="0" cy="86040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4360" y="1725480"/>
            <a:ext cx="2160360" cy="792360"/>
          </a:xfrm>
          <a:prstGeom prst="rect">
            <a:avLst/>
          </a:prstGeom>
          <a:solidFill>
            <a:srgbClr val="01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ydrogen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cial c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34640" y="1965240"/>
            <a:ext cx="360360" cy="0"/>
          </a:xfrm>
          <a:prstGeom prst="line">
            <a:avLst/>
          </a:prstGeom>
          <a:ln w="63360">
            <a:solidFill>
              <a:srgbClr val="01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414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7524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rranging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all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lements by atomic number and properties led to the creation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00360" y="1819440"/>
            <a:ext cx="3166920" cy="52056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55640" y="2376360"/>
            <a:ext cx="8229600" cy="588960"/>
            <a:chOff x="755640" y="2376360"/>
            <a:chExt cx="8229600" cy="588960"/>
          </a:xfrm>
        </p:grpSpPr>
        <p:sp>
          <p:nvSpPr>
            <p:cNvPr id="420" name=""/>
            <p:cNvSpPr/>
            <p:nvPr/>
          </p:nvSpPr>
          <p:spPr>
            <a:xfrm>
              <a:off x="755640" y="23763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528040" y="2508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55640" y="5249880"/>
            <a:ext cx="5486400" cy="458640"/>
            <a:chOff x="755640" y="5249880"/>
            <a:chExt cx="5486400" cy="458640"/>
          </a:xfrm>
        </p:grpSpPr>
        <p:sp>
          <p:nvSpPr>
            <p:cNvPr id="423" name=""/>
            <p:cNvSpPr/>
            <p:nvPr/>
          </p:nvSpPr>
          <p:spPr>
            <a:xfrm>
              <a:off x="755640" y="52498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12840" y="52498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272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844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416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988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560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32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276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848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00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704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55640" y="3878280"/>
            <a:ext cx="8229600" cy="458640"/>
            <a:chOff x="755640" y="3878280"/>
            <a:chExt cx="8229600" cy="458640"/>
          </a:xfrm>
        </p:grpSpPr>
        <p:sp>
          <p:nvSpPr>
            <p:cNvPr id="436" name=""/>
            <p:cNvSpPr/>
            <p:nvPr/>
          </p:nvSpPr>
          <p:spPr>
            <a:xfrm>
              <a:off x="755640" y="38782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12840" y="38782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20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992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564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36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5280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K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00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272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844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416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988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560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32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704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276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848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Z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708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55640" y="4792680"/>
            <a:ext cx="8229600" cy="458640"/>
            <a:chOff x="755640" y="4792680"/>
            <a:chExt cx="8229600" cy="458640"/>
          </a:xfrm>
        </p:grpSpPr>
        <p:sp>
          <p:nvSpPr>
            <p:cNvPr id="455" name=""/>
            <p:cNvSpPr/>
            <p:nvPr/>
          </p:nvSpPr>
          <p:spPr>
            <a:xfrm>
              <a:off x="755640" y="47926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12840" y="47926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420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992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564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136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5280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272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844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16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988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560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132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276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848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700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704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708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55640" y="3421080"/>
            <a:ext cx="8229600" cy="458640"/>
            <a:chOff x="755640" y="3421080"/>
            <a:chExt cx="8229600" cy="458640"/>
          </a:xfrm>
        </p:grpSpPr>
        <p:sp>
          <p:nvSpPr>
            <p:cNvPr id="474" name=""/>
            <p:cNvSpPr/>
            <p:nvPr/>
          </p:nvSpPr>
          <p:spPr>
            <a:xfrm>
              <a:off x="755640" y="34210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12840" y="34210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420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992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564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136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280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708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55640" y="2963880"/>
            <a:ext cx="8229600" cy="458640"/>
            <a:chOff x="755640" y="2963880"/>
            <a:chExt cx="8229600" cy="458640"/>
          </a:xfrm>
        </p:grpSpPr>
        <p:sp>
          <p:nvSpPr>
            <p:cNvPr id="483" name=""/>
            <p:cNvSpPr/>
            <p:nvPr/>
          </p:nvSpPr>
          <p:spPr>
            <a:xfrm>
              <a:off x="755640" y="29638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2840" y="29638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420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992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564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136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280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0708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55640" y="4335480"/>
            <a:ext cx="8229600" cy="458640"/>
            <a:chOff x="755640" y="4335480"/>
            <a:chExt cx="8229600" cy="458640"/>
          </a:xfrm>
        </p:grpSpPr>
        <p:sp>
          <p:nvSpPr>
            <p:cNvPr id="492" name=""/>
            <p:cNvSpPr/>
            <p:nvPr/>
          </p:nvSpPr>
          <p:spPr>
            <a:xfrm>
              <a:off x="755640" y="43354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12840" y="43354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20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992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564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136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280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700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272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Z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844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416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988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560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704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276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848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32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708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59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lumns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55640" y="2376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5640" y="29638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5640" y="34210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5640" y="38782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5640" y="43354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5640" y="47926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5640" y="52498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12840" y="29638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12840" y="34210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12840" y="38782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12840" y="43354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2840" y="47926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12840" y="52498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420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420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2420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4204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24204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992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992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992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9924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9924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564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564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15644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5644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564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136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136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136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1364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1364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528040" y="2508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5280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52804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52804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5280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280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700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272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844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416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88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560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132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704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276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848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00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72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844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416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988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60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704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276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848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32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272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844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16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988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560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32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276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848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700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704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272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844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416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988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560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132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276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848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700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044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084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7084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7084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07084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7084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596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"/>
          <p:cNvSpPr/>
          <p:nvPr/>
        </p:nvSpPr>
        <p:spPr>
          <a:xfrm>
            <a:off x="611280" y="7524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ar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columns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f elements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8088480" y="1685880"/>
            <a:ext cx="406080" cy="1268280"/>
            <a:chOff x="8088480" y="1685880"/>
            <a:chExt cx="406080" cy="1268280"/>
          </a:xfrm>
        </p:grpSpPr>
        <p:sp>
          <p:nvSpPr>
            <p:cNvPr id="601" name=""/>
            <p:cNvSpPr/>
            <p:nvPr/>
          </p:nvSpPr>
          <p:spPr>
            <a:xfrm flipH="1">
              <a:off x="8304120" y="1989000"/>
              <a:ext cx="12960" cy="965160"/>
            </a:xfrm>
            <a:prstGeom prst="line">
              <a:avLst/>
            </a:prstGeom>
            <a:ln w="507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88480" y="1685880"/>
              <a:ext cx="406080" cy="393840"/>
            </a:xfrm>
            <a:prstGeom prst="ellipse">
              <a:avLst/>
            </a:prstGeom>
            <a:solidFill>
              <a:srgbClr val="9900cc"/>
            </a:solidFill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35960" y="1685880"/>
            <a:ext cx="406440" cy="1279440"/>
            <a:chOff x="7635960" y="1685880"/>
            <a:chExt cx="406440" cy="1279440"/>
          </a:xfrm>
        </p:grpSpPr>
        <p:sp>
          <p:nvSpPr>
            <p:cNvPr id="604" name=""/>
            <p:cNvSpPr/>
            <p:nvPr/>
          </p:nvSpPr>
          <p:spPr>
            <a:xfrm>
              <a:off x="7831080" y="1809720"/>
              <a:ext cx="0" cy="1155600"/>
            </a:xfrm>
            <a:prstGeom prst="line">
              <a:avLst/>
            </a:prstGeom>
            <a:ln w="507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35960" y="1685880"/>
              <a:ext cx="406440" cy="393840"/>
            </a:xfrm>
            <a:prstGeom prst="ellipse">
              <a:avLst/>
            </a:prstGeom>
            <a:solidFill>
              <a:srgbClr val="9900cc"/>
            </a:solidFill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176960" y="1685880"/>
            <a:ext cx="406440" cy="1276560"/>
            <a:chOff x="7176960" y="1685880"/>
            <a:chExt cx="406440" cy="1276560"/>
          </a:xfrm>
        </p:grpSpPr>
        <p:sp>
          <p:nvSpPr>
            <p:cNvPr id="607" name=""/>
            <p:cNvSpPr/>
            <p:nvPr/>
          </p:nvSpPr>
          <p:spPr>
            <a:xfrm>
              <a:off x="7383600" y="1819440"/>
              <a:ext cx="0" cy="1143000"/>
            </a:xfrm>
            <a:prstGeom prst="line">
              <a:avLst/>
            </a:prstGeom>
            <a:ln w="507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76960" y="1685880"/>
              <a:ext cx="406440" cy="393840"/>
            </a:xfrm>
            <a:prstGeom prst="ellipse">
              <a:avLst/>
            </a:prstGeom>
            <a:solidFill>
              <a:srgbClr val="9900cc"/>
            </a:solidFill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732720" y="1692360"/>
            <a:ext cx="406440" cy="1272960"/>
            <a:chOff x="6732720" y="1692360"/>
            <a:chExt cx="406440" cy="1272960"/>
          </a:xfrm>
        </p:grpSpPr>
        <p:sp>
          <p:nvSpPr>
            <p:cNvPr id="610" name=""/>
            <p:cNvSpPr/>
            <p:nvPr/>
          </p:nvSpPr>
          <p:spPr>
            <a:xfrm>
              <a:off x="6948360" y="1809720"/>
              <a:ext cx="0" cy="1155600"/>
            </a:xfrm>
            <a:prstGeom prst="line">
              <a:avLst/>
            </a:prstGeom>
            <a:ln w="507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32720" y="1692360"/>
              <a:ext cx="406440" cy="393480"/>
            </a:xfrm>
            <a:prstGeom prst="ellipse">
              <a:avLst/>
            </a:prstGeom>
            <a:solidFill>
              <a:srgbClr val="9900cc"/>
            </a:solidFill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265800" y="1685880"/>
            <a:ext cx="406440" cy="1279440"/>
            <a:chOff x="6265800" y="1685880"/>
            <a:chExt cx="406440" cy="1279440"/>
          </a:xfrm>
        </p:grpSpPr>
        <p:sp>
          <p:nvSpPr>
            <p:cNvPr id="613" name=""/>
            <p:cNvSpPr/>
            <p:nvPr/>
          </p:nvSpPr>
          <p:spPr>
            <a:xfrm>
              <a:off x="6461280" y="1809720"/>
              <a:ext cx="0" cy="1155600"/>
            </a:xfrm>
            <a:prstGeom prst="line">
              <a:avLst/>
            </a:prstGeom>
            <a:ln w="507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65800" y="1685880"/>
              <a:ext cx="406440" cy="393840"/>
            </a:xfrm>
            <a:prstGeom prst="ellipse">
              <a:avLst/>
            </a:prstGeom>
            <a:solidFill>
              <a:srgbClr val="9900cc"/>
            </a:solidFill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224000" y="1673280"/>
            <a:ext cx="406440" cy="1290600"/>
            <a:chOff x="1224000" y="1673280"/>
            <a:chExt cx="406440" cy="1290600"/>
          </a:xfrm>
        </p:grpSpPr>
        <p:sp>
          <p:nvSpPr>
            <p:cNvPr id="616" name=""/>
            <p:cNvSpPr/>
            <p:nvPr/>
          </p:nvSpPr>
          <p:spPr>
            <a:xfrm>
              <a:off x="1424160" y="1808280"/>
              <a:ext cx="0" cy="1155600"/>
            </a:xfrm>
            <a:prstGeom prst="line">
              <a:avLst/>
            </a:prstGeom>
            <a:ln w="507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24000" y="1673280"/>
              <a:ext cx="406440" cy="393480"/>
            </a:xfrm>
            <a:prstGeom prst="ellipse">
              <a:avLst/>
            </a:prstGeom>
            <a:solidFill>
              <a:srgbClr val="9900cc"/>
            </a:solidFill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6084720" y="754200"/>
            <a:ext cx="1452600" cy="495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777960" y="1673280"/>
            <a:ext cx="406440" cy="717480"/>
            <a:chOff x="777960" y="1673280"/>
            <a:chExt cx="406440" cy="717480"/>
          </a:xfrm>
        </p:grpSpPr>
        <p:sp>
          <p:nvSpPr>
            <p:cNvPr id="620" name=""/>
            <p:cNvSpPr/>
            <p:nvPr/>
          </p:nvSpPr>
          <p:spPr>
            <a:xfrm>
              <a:off x="982800" y="1746360"/>
              <a:ext cx="14040" cy="644400"/>
            </a:xfrm>
            <a:prstGeom prst="line">
              <a:avLst/>
            </a:prstGeom>
            <a:ln w="507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7960" y="1673280"/>
              <a:ext cx="406440" cy="393480"/>
            </a:xfrm>
            <a:prstGeom prst="ellipse">
              <a:avLst/>
            </a:prstGeom>
            <a:solidFill>
              <a:srgbClr val="9900cc"/>
            </a:solidFill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8545680" y="1682640"/>
            <a:ext cx="406080" cy="825480"/>
            <a:chOff x="8545680" y="1682640"/>
            <a:chExt cx="406080" cy="825480"/>
          </a:xfrm>
        </p:grpSpPr>
        <p:sp>
          <p:nvSpPr>
            <p:cNvPr id="623" name=""/>
            <p:cNvSpPr/>
            <p:nvPr/>
          </p:nvSpPr>
          <p:spPr>
            <a:xfrm>
              <a:off x="8755200" y="1809720"/>
              <a:ext cx="0" cy="698400"/>
            </a:xfrm>
            <a:prstGeom prst="line">
              <a:avLst/>
            </a:prstGeom>
            <a:ln w="507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545680" y="1682640"/>
              <a:ext cx="406080" cy="393840"/>
            </a:xfrm>
            <a:prstGeom prst="ellipse">
              <a:avLst/>
            </a:prstGeom>
            <a:solidFill>
              <a:srgbClr val="9900cc"/>
            </a:solidFill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657440" y="1628640"/>
            <a:ext cx="4570200" cy="459720"/>
            <a:chOff x="1657440" y="1628640"/>
            <a:chExt cx="4570200" cy="459720"/>
          </a:xfrm>
        </p:grpSpPr>
        <p:sp>
          <p:nvSpPr>
            <p:cNvPr id="626" name=""/>
            <p:cNvSpPr/>
            <p:nvPr/>
          </p:nvSpPr>
          <p:spPr>
            <a:xfrm flipH="1" flipV="1">
              <a:off x="1657440" y="1879920"/>
              <a:ext cx="1079280" cy="2520"/>
            </a:xfrm>
            <a:prstGeom prst="line">
              <a:avLst/>
            </a:prstGeom>
            <a:ln w="101520">
              <a:solidFill>
                <a:srgbClr val="01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5148360" y="1876680"/>
              <a:ext cx="1079280" cy="2880"/>
            </a:xfrm>
            <a:prstGeom prst="line">
              <a:avLst/>
            </a:prstGeom>
            <a:ln w="101520">
              <a:solidFill>
                <a:srgbClr val="01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75080" y="1628640"/>
              <a:ext cx="2736720" cy="459720"/>
            </a:xfrm>
            <a:prstGeom prst="rect">
              <a:avLst/>
            </a:prstGeom>
            <a:solidFill>
              <a:srgbClr val="9900cc"/>
            </a:solidFill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Group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63720" y="3274920"/>
            <a:ext cx="4220640" cy="585720"/>
            <a:chOff x="1863720" y="3274920"/>
            <a:chExt cx="4220640" cy="585720"/>
          </a:xfrm>
        </p:grpSpPr>
        <p:sp>
          <p:nvSpPr>
            <p:cNvPr id="630" name=""/>
            <p:cNvSpPr/>
            <p:nvPr/>
          </p:nvSpPr>
          <p:spPr>
            <a:xfrm>
              <a:off x="1863720" y="3409920"/>
              <a:ext cx="719280" cy="90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11280" y="3274920"/>
              <a:ext cx="309744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transition el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06920" y="3429000"/>
              <a:ext cx="7200" cy="431640"/>
            </a:xfrm>
            <a:prstGeom prst="line">
              <a:avLst/>
            </a:prstGeom>
            <a:ln w="101520">
              <a:solidFill>
                <a:srgbClr val="ff33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365440" y="3409920"/>
              <a:ext cx="718920" cy="450720"/>
              <a:chOff x="5365440" y="3409920"/>
              <a:chExt cx="718920" cy="450720"/>
            </a:xfrm>
          </p:grpSpPr>
          <p:sp>
            <p:nvSpPr>
              <p:cNvPr id="634" name=""/>
              <p:cNvSpPr/>
              <p:nvPr/>
            </p:nvSpPr>
            <p:spPr>
              <a:xfrm flipH="1">
                <a:off x="5365080" y="3409920"/>
                <a:ext cx="718920" cy="90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33960" y="3429000"/>
                <a:ext cx="7200" cy="431640"/>
              </a:xfrm>
              <a:prstGeom prst="line">
                <a:avLst/>
              </a:prstGeom>
              <a:ln w="101520">
                <a:solidFill>
                  <a:srgbClr val="ff33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500"/>
                            </p:stCondLst>
                            <p:childTnLst>
                              <p:par>
                                <p:cTn id="6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>
            <a:off x="364680" y="1657800"/>
            <a:ext cx="762480" cy="764640"/>
          </a:xfrm>
          <a:prstGeom prst="line">
            <a:avLst/>
          </a:prstGeom>
          <a:ln w="101520">
            <a:solidFill>
              <a:srgbClr val="9900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ws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50960" y="23781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23360" y="2508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096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0816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15176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0896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06616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2336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23736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94560" y="2965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096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0816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23736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5176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896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06616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2336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94560" y="3422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09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6653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1225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797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369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941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513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085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657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229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801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373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945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89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661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081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5233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151760" y="3879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09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653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1225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5797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369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4941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513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8657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229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801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373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6945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1517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081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089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085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0661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523360" y="4336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509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081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225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797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369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941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513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085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3229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2373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6945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1517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089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653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661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8657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523360" y="4794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09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081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225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797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369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4941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513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085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229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801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653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865760" y="5251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723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5" name=""/>
          <p:cNvSpPr/>
          <p:nvPr/>
        </p:nvSpPr>
        <p:spPr>
          <a:xfrm>
            <a:off x="5648400" y="763560"/>
            <a:ext cx="1584360" cy="495360"/>
          </a:xfrm>
          <a:prstGeom prst="rect">
            <a:avLst/>
          </a:prstGeom>
          <a:solidFill>
            <a:srgbClr val="01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11280" y="7524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ar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rows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f elements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33200" y="2459160"/>
            <a:ext cx="630360" cy="393480"/>
            <a:chOff x="133200" y="2459160"/>
            <a:chExt cx="630360" cy="393480"/>
          </a:xfrm>
        </p:grpSpPr>
        <p:sp>
          <p:nvSpPr>
            <p:cNvPr id="729" name=""/>
            <p:cNvSpPr/>
            <p:nvPr/>
          </p:nvSpPr>
          <p:spPr>
            <a:xfrm>
              <a:off x="534960" y="2660760"/>
              <a:ext cx="228600" cy="0"/>
            </a:xfrm>
            <a:prstGeom prst="line">
              <a:avLst/>
            </a:prstGeom>
            <a:ln w="50760">
              <a:solidFill>
                <a:srgbClr val="01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3200" y="2459160"/>
              <a:ext cx="406440" cy="393480"/>
            </a:xfrm>
            <a:prstGeom prst="ellipse">
              <a:avLst/>
            </a:prstGeom>
            <a:solidFill>
              <a:srgbClr val="010066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33200" y="2997360"/>
            <a:ext cx="615960" cy="393480"/>
            <a:chOff x="133200" y="2997360"/>
            <a:chExt cx="615960" cy="393480"/>
          </a:xfrm>
        </p:grpSpPr>
        <p:sp>
          <p:nvSpPr>
            <p:cNvPr id="732" name=""/>
            <p:cNvSpPr/>
            <p:nvPr/>
          </p:nvSpPr>
          <p:spPr>
            <a:xfrm>
              <a:off x="520560" y="3191040"/>
              <a:ext cx="228600" cy="0"/>
            </a:xfrm>
            <a:prstGeom prst="line">
              <a:avLst/>
            </a:prstGeom>
            <a:ln w="50760">
              <a:solidFill>
                <a:srgbClr val="01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3200" y="2997360"/>
              <a:ext cx="406440" cy="393480"/>
            </a:xfrm>
            <a:prstGeom prst="ellipse">
              <a:avLst/>
            </a:prstGeom>
            <a:solidFill>
              <a:srgbClr val="010066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27080" y="3454560"/>
            <a:ext cx="622080" cy="393480"/>
            <a:chOff x="127080" y="3454560"/>
            <a:chExt cx="622080" cy="393480"/>
          </a:xfrm>
        </p:grpSpPr>
        <p:sp>
          <p:nvSpPr>
            <p:cNvPr id="735" name=""/>
            <p:cNvSpPr/>
            <p:nvPr/>
          </p:nvSpPr>
          <p:spPr>
            <a:xfrm>
              <a:off x="520560" y="3648240"/>
              <a:ext cx="228600" cy="0"/>
            </a:xfrm>
            <a:prstGeom prst="line">
              <a:avLst/>
            </a:prstGeom>
            <a:ln w="50760">
              <a:solidFill>
                <a:srgbClr val="01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7080" y="3454560"/>
              <a:ext cx="406440" cy="393480"/>
            </a:xfrm>
            <a:prstGeom prst="ellipse">
              <a:avLst/>
            </a:prstGeom>
            <a:solidFill>
              <a:srgbClr val="010066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33200" y="3898800"/>
            <a:ext cx="615960" cy="393840"/>
            <a:chOff x="133200" y="3898800"/>
            <a:chExt cx="615960" cy="393840"/>
          </a:xfrm>
        </p:grpSpPr>
        <p:sp>
          <p:nvSpPr>
            <p:cNvPr id="738" name=""/>
            <p:cNvSpPr/>
            <p:nvPr/>
          </p:nvSpPr>
          <p:spPr>
            <a:xfrm>
              <a:off x="520560" y="4105440"/>
              <a:ext cx="228600" cy="0"/>
            </a:xfrm>
            <a:prstGeom prst="line">
              <a:avLst/>
            </a:prstGeom>
            <a:ln w="50760">
              <a:solidFill>
                <a:srgbClr val="01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3200" y="3898800"/>
              <a:ext cx="406440" cy="393840"/>
            </a:xfrm>
            <a:prstGeom prst="ellipse">
              <a:avLst/>
            </a:prstGeom>
            <a:solidFill>
              <a:srgbClr val="010066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27080" y="4359240"/>
            <a:ext cx="622080" cy="393840"/>
            <a:chOff x="127080" y="4359240"/>
            <a:chExt cx="622080" cy="393840"/>
          </a:xfrm>
        </p:grpSpPr>
        <p:sp>
          <p:nvSpPr>
            <p:cNvPr id="741" name=""/>
            <p:cNvSpPr/>
            <p:nvPr/>
          </p:nvSpPr>
          <p:spPr>
            <a:xfrm>
              <a:off x="520560" y="4562640"/>
              <a:ext cx="228600" cy="0"/>
            </a:xfrm>
            <a:prstGeom prst="line">
              <a:avLst/>
            </a:prstGeom>
            <a:ln w="50760">
              <a:solidFill>
                <a:srgbClr val="01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7080" y="4359240"/>
              <a:ext cx="406440" cy="393840"/>
            </a:xfrm>
            <a:prstGeom prst="ellipse">
              <a:avLst/>
            </a:prstGeom>
            <a:solidFill>
              <a:srgbClr val="010066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133200" y="4826160"/>
            <a:ext cx="615960" cy="393480"/>
            <a:chOff x="133200" y="4826160"/>
            <a:chExt cx="615960" cy="393480"/>
          </a:xfrm>
        </p:grpSpPr>
        <p:sp>
          <p:nvSpPr>
            <p:cNvPr id="744" name=""/>
            <p:cNvSpPr/>
            <p:nvPr/>
          </p:nvSpPr>
          <p:spPr>
            <a:xfrm>
              <a:off x="520560" y="5019840"/>
              <a:ext cx="228600" cy="0"/>
            </a:xfrm>
            <a:prstGeom prst="line">
              <a:avLst/>
            </a:prstGeom>
            <a:ln w="50760">
              <a:solidFill>
                <a:srgbClr val="01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3200" y="4826160"/>
              <a:ext cx="406440" cy="393480"/>
            </a:xfrm>
            <a:prstGeom prst="ellipse">
              <a:avLst/>
            </a:prstGeom>
            <a:solidFill>
              <a:srgbClr val="010066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133200" y="5267160"/>
            <a:ext cx="615960" cy="393840"/>
            <a:chOff x="133200" y="5267160"/>
            <a:chExt cx="615960" cy="393840"/>
          </a:xfrm>
        </p:grpSpPr>
        <p:sp>
          <p:nvSpPr>
            <p:cNvPr id="747" name=""/>
            <p:cNvSpPr/>
            <p:nvPr/>
          </p:nvSpPr>
          <p:spPr>
            <a:xfrm>
              <a:off x="520560" y="5477040"/>
              <a:ext cx="228600" cy="0"/>
            </a:xfrm>
            <a:prstGeom prst="line">
              <a:avLst/>
            </a:prstGeom>
            <a:ln w="50760">
              <a:solidFill>
                <a:srgbClr val="01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3200" y="5267160"/>
              <a:ext cx="406440" cy="393840"/>
            </a:xfrm>
            <a:prstGeom prst="ellipse">
              <a:avLst/>
            </a:prstGeom>
            <a:solidFill>
              <a:srgbClr val="010066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870120" y="1413000"/>
            <a:ext cx="2519280" cy="459720"/>
          </a:xfrm>
          <a:prstGeom prst="rect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iod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5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752400" y="23734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24800" y="2503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2400" y="297180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524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24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24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24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24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09600" y="297180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6668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1240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096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812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384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4956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528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100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672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244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816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388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6960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104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0676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096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5248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668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1240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812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384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4956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672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244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816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2388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960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1532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096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104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100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2096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240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812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384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956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100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244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816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388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6960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1532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104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668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0676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8672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096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240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5812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0384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956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528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3244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7816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6668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672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2388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1532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1532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104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104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0676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0676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248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5248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5248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0676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6960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5248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388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960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1532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5960" y="741240"/>
            <a:ext cx="683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Group and Period of this element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09600" y="341640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689880" y="296712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1200" y="1228680"/>
            <a:ext cx="14508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oup 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16160" y="1236600"/>
            <a:ext cx="145584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ou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098880" y="1243080"/>
            <a:ext cx="147312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oup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064360" y="341784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49160" y="387504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94200" y="1233360"/>
            <a:ext cx="14778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93920" y="122868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287440" y="122868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89240" y="122868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287440" y="122868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848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9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Name the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088480" y="1685880"/>
            <a:ext cx="40608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635960" y="16858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76960" y="16858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732720" y="169236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265800" y="16858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24000" y="167328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7960" y="167328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545680" y="1682640"/>
            <a:ext cx="40608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33200" y="29973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27080" y="34545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33200" y="3898800"/>
            <a:ext cx="40644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7080" y="4359240"/>
            <a:ext cx="40644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33200" y="48261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3200" y="5267160"/>
            <a:ext cx="40644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572000" y="1228680"/>
            <a:ext cx="1440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io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67320" y="1235160"/>
            <a:ext cx="1444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io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64080" y="1243080"/>
            <a:ext cx="14479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io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570560" y="1233360"/>
            <a:ext cx="14540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i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3200" y="24591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752400" y="237348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44480" y="2368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524800" y="2503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2400" y="297180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24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524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524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524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524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09600" y="297180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668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1240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2096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5812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384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956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528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100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8672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3244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816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388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960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104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0676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096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5248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6668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1240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812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0384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4956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528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8672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244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816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2388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6960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532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096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6104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4100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2096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1240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812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0384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4956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9528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4100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244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816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2388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6960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532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104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668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0676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672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2096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240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5812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0384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4956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528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4100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244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816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6668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67200" y="5246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2388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1532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1532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6104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104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80676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0676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5248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5248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24800" y="47894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0676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696000" y="34178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524800" y="43322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2388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96000" y="29606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153200" y="387504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44480" y="2505240"/>
            <a:ext cx="8229600" cy="3200400"/>
            <a:chOff x="744480" y="2505240"/>
            <a:chExt cx="8229600" cy="3200400"/>
          </a:xfrm>
        </p:grpSpPr>
        <p:sp>
          <p:nvSpPr>
            <p:cNvPr id="957" name=""/>
            <p:cNvSpPr/>
            <p:nvPr/>
          </p:nvSpPr>
          <p:spPr>
            <a:xfrm>
              <a:off x="744480" y="2962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4480" y="34196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444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444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444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444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01680" y="2962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588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160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01680" y="34196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732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0304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876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43440" y="387360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020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592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3164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736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308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6880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024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596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2016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5168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588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160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732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0304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4876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448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592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3164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736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2308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880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1452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5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2016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6024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020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2016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160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732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304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7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876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9448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7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020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3164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7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736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2308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6880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1452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6024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588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596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8592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016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1160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732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304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4876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9448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020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164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7736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588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59280" y="5248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30880" y="34196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45280" y="34196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45280" y="2962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2480" y="2962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602480" y="34196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059680" y="34196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59680" y="2962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516880" y="2962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516880" y="34196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16880" y="4791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0596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688080" y="34196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516880" y="43340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516880" y="25052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230880" y="2962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88080" y="29624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45280" y="387684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Missing ele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042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4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11280" y="7524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 this periodic table the symbols are replaced by atomic numbers. Some of the numbers are missing –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32000" y="1665360"/>
            <a:ext cx="7127640" cy="11912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wo more periods of elements fit here but are only shown on some periodic t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are called the lanthanides and actin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 rot="16200000">
            <a:off x="1156680" y="3621960"/>
            <a:ext cx="1900440" cy="360360"/>
          </a:xfrm>
          <a:prstGeom prst="leftArrow">
            <a:avLst>
              <a:gd name="adj1" fmla="val 50000"/>
              <a:gd name="adj2" fmla="val 92192"/>
            </a:avLst>
          </a:prstGeom>
          <a:solidFill>
            <a:srgbClr val="9900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104920" y="4791240"/>
            <a:ext cx="0" cy="934920"/>
          </a:xfrm>
          <a:prstGeom prst="line">
            <a:avLst/>
          </a:prstGeom>
          <a:ln w="114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971640" y="838080"/>
            <a:ext cx="4968720" cy="71928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907920" y="2062080"/>
            <a:ext cx="252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906480" y="28544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00000" y="447372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5560" y="361008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314360" y="1846440"/>
            <a:ext cx="635328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Elements and atomic number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314360" y="2638440"/>
            <a:ext cx="455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Arranging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392120" y="4218120"/>
            <a:ext cx="4403880" cy="68076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lectron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76280" y="3402000"/>
            <a:ext cx="4780080" cy="676440"/>
          </a:xfrm>
          <a:prstGeom prst="roundRect">
            <a:avLst>
              <a:gd name="adj" fmla="val 43579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tterns of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060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1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2" name=""/>
          <p:cNvSpPr/>
          <p:nvPr/>
        </p:nvSpPr>
        <p:spPr>
          <a:xfrm>
            <a:off x="900000" y="53085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92120" y="5052960"/>
            <a:ext cx="4187880" cy="68112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Teacher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1960" y="0"/>
            <a:ext cx="887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tterns 1: Metals and non-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260880" y="1988640"/>
            <a:ext cx="46958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n the left and cent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59080" y="2593800"/>
            <a:ext cx="48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ostly on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068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9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1280" y="7524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re ar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different types of element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grouped together on the periodic 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116000" y="1989000"/>
            <a:ext cx="1152360" cy="49716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16000" y="2590920"/>
            <a:ext cx="1871640" cy="4968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74920" y="32259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 between metals and non-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16000" y="3219480"/>
            <a:ext cx="1871640" cy="4968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11280" y="411336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etalloids aren’t type of rock music f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etalloids actually have some properties similar to metals and other properties similar to no-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n you name a metalloid el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4221000"/>
            <a:ext cx="23652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838080"/>
            <a:ext cx="4968720" cy="71928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7920" y="2062080"/>
            <a:ext cx="252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6480" y="28544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447372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5560" y="361008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14360" y="1846440"/>
            <a:ext cx="6353280" cy="647640"/>
          </a:xfrm>
          <a:prstGeom prst="roundRect">
            <a:avLst>
              <a:gd name="adj" fmla="val 43579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ments and atomic numb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14360" y="2638440"/>
            <a:ext cx="455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Arranging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92120" y="4218120"/>
            <a:ext cx="4403880" cy="68076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Electron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6280" y="3402000"/>
            <a:ext cx="4780080" cy="6764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Patterns of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07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900000" y="53085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92120" y="5052960"/>
            <a:ext cx="4187880" cy="68112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Teacher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8" name="ShockwaveFlash1"/>
          <p:cNvGraphicFramePr/>
          <p:nvPr/>
        </p:nvGraphicFramePr>
        <p:xfrm>
          <a:off x="395280" y="741240"/>
          <a:ext cx="8310600" cy="53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41240"/>
                    <a:ext cx="8310600" cy="539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080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081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2" name="" descr=""/>
            <p:cNvPicPr/>
            <p:nvPr/>
          </p:nvPicPr>
          <p:blipFill>
            <a:blip r:embed="rId3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3" name=""/>
          <p:cNvGrpSpPr/>
          <p:nvPr/>
        </p:nvGrpSpPr>
        <p:grpSpPr>
          <a:xfrm>
            <a:off x="7304040" y="115920"/>
            <a:ext cx="576360" cy="576360"/>
            <a:chOff x="7304040" y="115920"/>
            <a:chExt cx="576360" cy="576360"/>
          </a:xfrm>
        </p:grpSpPr>
        <p:pic>
          <p:nvPicPr>
            <p:cNvPr id="1084" name="" descr=""/>
            <p:cNvPicPr/>
            <p:nvPr/>
          </p:nvPicPr>
          <p:blipFill>
            <a:blip r:embed="rId4"/>
            <a:stretch/>
          </p:blipFill>
          <p:spPr>
            <a:xfrm>
              <a:off x="7364520" y="17136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7304040" y="115920"/>
              <a:ext cx="576360" cy="57636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348680" y="168120"/>
              <a:ext cx="468000" cy="468360"/>
            </a:xfrm>
            <a:prstGeom prst="ellipse">
              <a:avLst/>
            </a:prstGeom>
            <a:noFill/>
            <a:ln w="255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3400" y="6120"/>
            <a:ext cx="7715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Metals, non-metals and 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"/>
          <p:cNvGrpSpPr/>
          <p:nvPr/>
        </p:nvGrpSpPr>
        <p:grpSpPr>
          <a:xfrm>
            <a:off x="749160" y="2359080"/>
            <a:ext cx="8229600" cy="3355920"/>
            <a:chOff x="749160" y="2359080"/>
            <a:chExt cx="8229600" cy="3355920"/>
          </a:xfrm>
        </p:grpSpPr>
        <p:grpSp>
          <p:nvGrpSpPr>
            <p:cNvPr id="1089" name=""/>
            <p:cNvGrpSpPr/>
            <p:nvPr/>
          </p:nvGrpSpPr>
          <p:grpSpPr>
            <a:xfrm>
              <a:off x="749160" y="2359080"/>
              <a:ext cx="8229600" cy="3355920"/>
              <a:chOff x="749160" y="2359080"/>
              <a:chExt cx="8229600" cy="3355920"/>
            </a:xfrm>
          </p:grpSpPr>
          <p:sp>
            <p:nvSpPr>
              <p:cNvPr id="1090" name=""/>
              <p:cNvSpPr/>
              <p:nvPr/>
            </p:nvSpPr>
            <p:spPr>
              <a:xfrm>
                <a:off x="749160" y="2359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49160" y="2971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49160" y="34290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491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491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91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91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F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206360" y="2971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6635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1207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06360" y="34290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5779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0351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4923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9495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4067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8639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211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7783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Z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2355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G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6927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071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0643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2063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5215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6635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1207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Z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5779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0351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4923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9495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8639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3211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783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355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6927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1499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2063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071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4067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2063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1207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779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0351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4923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9495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4067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I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3211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783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2355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927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1499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071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6635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0643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8639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2063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1207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5779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0351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4923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9495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4067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3211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7783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635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63960" y="5257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235560" y="34290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149960" y="34290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149960" y="2971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07160" y="2971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07160" y="34290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064360" y="34290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064360" y="2971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521560" y="2971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521560" y="34290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521560" y="4800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0643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692760" y="34290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521560" y="43434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521560" y="25146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35560" y="2971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692760" y="29718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149960" y="388620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35560" y="2971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35560" y="34290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692760" y="3429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149960" y="38862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60716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064360" y="4800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692760" y="388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149960" y="43434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07160" y="4800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521560" y="2514600"/>
                <a:ext cx="0" cy="27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235560" y="2971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235560" y="34290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692760" y="34290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692760" y="38862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>
              <a:off x="7167600" y="3886200"/>
              <a:ext cx="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7167600" y="4330440"/>
              <a:ext cx="4572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624800" y="436896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2195640" y="1557360"/>
            <a:ext cx="2376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licon (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660920" y="1555920"/>
            <a:ext cx="1574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l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195640" y="1552680"/>
            <a:ext cx="236700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ancium (F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662360" y="1546200"/>
            <a:ext cx="1575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195640" y="1555920"/>
            <a:ext cx="2376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andium (S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660920" y="1557360"/>
            <a:ext cx="1574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95640" y="1555920"/>
            <a:ext cx="2376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rypton  (K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626000" y="1560600"/>
            <a:ext cx="1655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n-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1557360"/>
            <a:ext cx="2376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balt 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622760" y="1557360"/>
            <a:ext cx="1575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202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3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4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11280" y="779400"/>
            <a:ext cx="828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s this element a metal, non-metal or metalloid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521560" y="388620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657440" y="388944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46280" y="526716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688080" y="342900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02080" y="388944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5840" y="-32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Metal, non-metal or metallo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611280" y="4113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nly two elements are liquids at room temp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214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5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6" name=""/>
          <p:cNvSpPr/>
          <p:nvPr/>
        </p:nvSpPr>
        <p:spPr>
          <a:xfrm>
            <a:off x="330120" y="83808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11280" y="73512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re ar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elements of different stat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grouped together on the periodic 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3240" y="1989000"/>
            <a:ext cx="570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n the left, in the centre and to the rig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971800" y="2593800"/>
            <a:ext cx="48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nly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two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elements ar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55640" y="1989000"/>
            <a:ext cx="1152360" cy="49716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55640" y="2590920"/>
            <a:ext cx="1224000" cy="4968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87640" y="32259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ostly on the far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5640" y="3219480"/>
            <a:ext cx="1079640" cy="4968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24000" y="4221000"/>
            <a:ext cx="23652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5640" y="5237280"/>
            <a:ext cx="1512720" cy="4968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84360" y="5237280"/>
            <a:ext cx="1440000" cy="4968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11280" y="472428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n you name these two el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3400" y="7920"/>
            <a:ext cx="5627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tterns 2: Physic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9" name="ShockwaveFlash1"/>
          <p:cNvGraphicFramePr/>
          <p:nvPr/>
        </p:nvGraphicFramePr>
        <p:xfrm>
          <a:off x="395280" y="741240"/>
          <a:ext cx="830592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41240"/>
                    <a:ext cx="8305920" cy="5410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31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232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3" name="" descr=""/>
            <p:cNvPicPr/>
            <p:nvPr/>
          </p:nvPicPr>
          <p:blipFill>
            <a:blip r:embed="rId3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"/>
          <p:cNvGrpSpPr/>
          <p:nvPr/>
        </p:nvGrpSpPr>
        <p:grpSpPr>
          <a:xfrm>
            <a:off x="7304040" y="115920"/>
            <a:ext cx="576360" cy="576360"/>
            <a:chOff x="7304040" y="115920"/>
            <a:chExt cx="576360" cy="576360"/>
          </a:xfrm>
        </p:grpSpPr>
        <p:pic>
          <p:nvPicPr>
            <p:cNvPr id="1235" name="" descr=""/>
            <p:cNvPicPr/>
            <p:nvPr/>
          </p:nvPicPr>
          <p:blipFill>
            <a:blip r:embed="rId4"/>
            <a:stretch/>
          </p:blipFill>
          <p:spPr>
            <a:xfrm>
              <a:off x="7364520" y="17136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"/>
            <p:cNvSpPr/>
            <p:nvPr/>
          </p:nvSpPr>
          <p:spPr>
            <a:xfrm>
              <a:off x="7304040" y="115920"/>
              <a:ext cx="576360" cy="57636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348680" y="168120"/>
              <a:ext cx="468000" cy="468360"/>
            </a:xfrm>
            <a:prstGeom prst="ellipse">
              <a:avLst/>
            </a:prstGeom>
            <a:noFill/>
            <a:ln w="255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5480" y="-3600"/>
            <a:ext cx="353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hysic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"/>
          <p:cNvGrpSpPr/>
          <p:nvPr/>
        </p:nvGrpSpPr>
        <p:grpSpPr>
          <a:xfrm>
            <a:off x="768240" y="2349360"/>
            <a:ext cx="8229600" cy="3355920"/>
            <a:chOff x="768240" y="2349360"/>
            <a:chExt cx="8229600" cy="3355920"/>
          </a:xfrm>
        </p:grpSpPr>
        <p:grpSp>
          <p:nvGrpSpPr>
            <p:cNvPr id="1240" name=""/>
            <p:cNvGrpSpPr/>
            <p:nvPr/>
          </p:nvGrpSpPr>
          <p:grpSpPr>
            <a:xfrm>
              <a:off x="768240" y="2349360"/>
              <a:ext cx="8229600" cy="3355920"/>
              <a:chOff x="768240" y="2349360"/>
              <a:chExt cx="8229600" cy="3355920"/>
            </a:xfrm>
          </p:grpSpPr>
          <p:sp>
            <p:nvSpPr>
              <p:cNvPr id="1241" name=""/>
              <p:cNvSpPr/>
              <p:nvPr/>
            </p:nvSpPr>
            <p:spPr>
              <a:xfrm>
                <a:off x="768240" y="234936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68240" y="2962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68240" y="34192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682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82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82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682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F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225440" y="2962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6826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1398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225440" y="34192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5970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542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5114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9686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4258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8830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3402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74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Z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2546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G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7118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262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0834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2254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5406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6826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1398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Z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5970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0542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5114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9686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8830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3402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7974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2546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7118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1690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2254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6262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4258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2254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1398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5970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542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5114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9686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4258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I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3402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7974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2546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7118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690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262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6826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0834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8830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2254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1398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5970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0542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5114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9686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4258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3402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7974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826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883040" y="5248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254640" y="34192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169040" y="34192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169040" y="2962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26240" y="2962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26240" y="34192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083440" y="34192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083440" y="2962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540640" y="2962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540640" y="34192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540640" y="4790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0834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711840" y="34192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540640" y="43336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540640" y="25048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254640" y="2962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711840" y="29620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169040" y="387648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254640" y="2962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254640" y="34192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711840" y="34192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169040" y="38764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626240" y="4333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083440" y="4790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711840" y="3876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169040" y="433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626240" y="4790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8540640" y="2504880"/>
                <a:ext cx="0" cy="27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254640" y="2962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254640" y="3419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11840" y="34192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11840" y="38764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7186680" y="3876480"/>
              <a:ext cx="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7186680" y="4320720"/>
              <a:ext cx="4572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643880" y="435924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2411280" y="1557360"/>
            <a:ext cx="21607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rypton (K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653000" y="1557360"/>
            <a:ext cx="1574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540640" y="387684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411280" y="1557360"/>
            <a:ext cx="21607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iobium (N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643280" y="1557360"/>
            <a:ext cx="1575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597040" y="433404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411280" y="1557360"/>
            <a:ext cx="21607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arium (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225440" y="479124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643280" y="1557360"/>
            <a:ext cx="1575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411280" y="1557360"/>
            <a:ext cx="21607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itrogen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169040" y="296244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643280" y="1557360"/>
            <a:ext cx="1575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411280" y="1557360"/>
            <a:ext cx="21607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romine (B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083440" y="387684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653000" y="1557360"/>
            <a:ext cx="1574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358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9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0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11280" y="779400"/>
            <a:ext cx="828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s this element a solid, liquid or gas at room temperature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5480" y="10800"/>
            <a:ext cx="4259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Solid, liquid or 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8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tterns 3: Reactivity of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55640" y="5589720"/>
            <a:ext cx="6624720" cy="718920"/>
          </a:xfrm>
          <a:prstGeom prst="leftArrow">
            <a:avLst>
              <a:gd name="adj1" fmla="val 47907"/>
              <a:gd name="adj2" fmla="val 69324"/>
            </a:avLst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re 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 rot="16200000">
            <a:off x="-926640" y="3613320"/>
            <a:ext cx="2628720" cy="761760"/>
          </a:xfrm>
          <a:prstGeom prst="leftArrow">
            <a:avLst>
              <a:gd name="adj1" fmla="val 47509"/>
              <a:gd name="adj2" fmla="val 58760"/>
            </a:avLst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367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8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9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11280" y="765000"/>
            <a:ext cx="828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happens the reactivity of metals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along a perio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760320" y="2421000"/>
            <a:ext cx="6716880" cy="3119040"/>
            <a:chOff x="760320" y="2421000"/>
            <a:chExt cx="6716880" cy="3119040"/>
          </a:xfrm>
        </p:grpSpPr>
        <p:sp>
          <p:nvSpPr>
            <p:cNvPr id="1372" name=""/>
            <p:cNvSpPr/>
            <p:nvPr/>
          </p:nvSpPr>
          <p:spPr>
            <a:xfrm>
              <a:off x="760320" y="2421000"/>
              <a:ext cx="419040" cy="42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60320" y="29890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0320" y="341460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60320" y="38401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60320" y="42656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0320" y="46893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60320" y="51148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179360" y="298908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600200" y="38401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19240" y="384012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179360" y="341460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440080" y="38401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859120" y="384012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79960" y="38401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699000" y="38401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18040" y="38401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38520" y="3840120"/>
              <a:ext cx="41940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57920" y="38401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78400" y="38401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Z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7440" y="384012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218280" y="38401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179360" y="384012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00200" y="42656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019240" y="4265640"/>
              <a:ext cx="4208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Z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440080" y="42656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N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59120" y="4265640"/>
              <a:ext cx="4208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279960" y="42656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99000" y="42656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538520" y="4265640"/>
              <a:ext cx="41940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957920" y="426564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78400" y="42656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7440" y="4265640"/>
              <a:ext cx="4208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218280" y="42656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37320" y="42656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179360" y="4265640"/>
              <a:ext cx="4208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118040" y="426564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179360" y="46893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19240" y="46893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H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40080" y="46893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59120" y="46893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279960" y="46893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699000" y="46893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118040" y="46893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957920" y="46893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378400" y="46893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H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97440" y="46893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218280" y="46893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37320" y="46893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B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056360" y="46893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600200" y="46893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538520" y="4689360"/>
              <a:ext cx="41940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79360" y="511488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019240" y="511488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440080" y="51148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59120" y="511488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79960" y="51148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B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699000" y="51148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118040" y="511488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957920" y="511488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378400" y="51148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600200" y="51148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538520" y="5114880"/>
              <a:ext cx="41940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97440" y="341460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7056360" y="384012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477200" y="384012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896240" y="384012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056360" y="4265640"/>
            <a:ext cx="420840" cy="4237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477200" y="468936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637320" y="341460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637320" y="298944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056360" y="2989440"/>
            <a:ext cx="4208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056360" y="341460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477200" y="341460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477200" y="298944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896240" y="299556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896240" y="341136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896240" y="468936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477200" y="4265640"/>
            <a:ext cx="419040" cy="4237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218280" y="341460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896240" y="4265640"/>
            <a:ext cx="420840" cy="4237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896240" y="2565360"/>
            <a:ext cx="42084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797440" y="2989440"/>
            <a:ext cx="4208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218280" y="298944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637320" y="384012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11280" y="1268280"/>
            <a:ext cx="828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happens the reactivity of metals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down a group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1280" y="1855800"/>
            <a:ext cx="828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ich is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most reactive metal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2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547640" y="1738440"/>
            <a:ext cx="496908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tassium (K)  or  lithium (Li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/>
          </p:nvPr>
        </p:nvSpPr>
        <p:spPr>
          <a:xfrm>
            <a:off x="0" y="-19080"/>
            <a:ext cx="73915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743040" y="2422440"/>
            <a:ext cx="6716160" cy="3119040"/>
            <a:chOff x="743040" y="2422440"/>
            <a:chExt cx="6716160" cy="3119040"/>
          </a:xfrm>
        </p:grpSpPr>
        <p:sp>
          <p:nvSpPr>
            <p:cNvPr id="1461" name=""/>
            <p:cNvSpPr/>
            <p:nvPr/>
          </p:nvSpPr>
          <p:spPr>
            <a:xfrm>
              <a:off x="743040" y="2422440"/>
              <a:ext cx="418680" cy="42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43040" y="29905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43040" y="341604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4304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4304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4304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4304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61720" y="29905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8256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001600" y="38415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61720" y="341604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2244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841480" y="38415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26232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68136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100400" y="384156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520880" y="38415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940280" y="384156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36076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Z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79800" y="38415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0064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61720" y="38415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58256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001600" y="426708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Z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42244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N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41480" y="426708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26232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68136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520880" y="426708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940280" y="4267080"/>
              <a:ext cx="42012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36076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79800" y="426708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20064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1968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61720" y="426708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100400" y="4267080"/>
              <a:ext cx="42012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16172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00160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H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42244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84148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26232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68136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100400" y="469080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940280" y="469080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36076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H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77980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0064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1968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B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03872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58256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520880" y="469080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61720" y="51163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01600" y="51163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42244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841480" y="51163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26232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B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68136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100400" y="511632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940280" y="511632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36076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58256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20880" y="51163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779800" y="341604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7039080" y="3841920"/>
            <a:ext cx="42048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459560" y="384192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878600" y="3841920"/>
            <a:ext cx="4208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039080" y="4267080"/>
            <a:ext cx="42048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459560" y="469116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620040" y="341640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620040" y="299736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039080" y="2990880"/>
            <a:ext cx="42048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039080" y="3416400"/>
            <a:ext cx="42048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59560" y="341640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459560" y="299088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878600" y="2997360"/>
            <a:ext cx="4208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878600" y="341316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878600" y="469116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459560" y="4267080"/>
            <a:ext cx="41904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200640" y="3416400"/>
            <a:ext cx="41940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878600" y="4267080"/>
            <a:ext cx="42084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878600" y="2567160"/>
            <a:ext cx="420840" cy="4237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780160" y="2997360"/>
            <a:ext cx="42048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200640" y="2997360"/>
            <a:ext cx="41940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620040" y="384192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547640" y="1735200"/>
            <a:ext cx="4969080" cy="8254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cium (Ca) or magnesium (M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549440" y="1738440"/>
            <a:ext cx="496728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cium (Ca) or iron (F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547640" y="1735200"/>
            <a:ext cx="496908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pper (Cu) or barium (Ba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549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0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1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11280" y="779400"/>
            <a:ext cx="828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rom the positions of thes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metal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periodic table, which metal in each pair is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more reactiv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rot="5400000">
            <a:off x="2304000" y="2350080"/>
            <a:ext cx="754200" cy="540000"/>
          </a:xfrm>
          <a:prstGeom prst="leftArrow">
            <a:avLst>
              <a:gd name="adj1" fmla="val 33917"/>
              <a:gd name="adj2" fmla="val 52116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rot="5400000">
            <a:off x="2304000" y="2350080"/>
            <a:ext cx="754200" cy="540000"/>
          </a:xfrm>
          <a:prstGeom prst="leftArrow">
            <a:avLst>
              <a:gd name="adj1" fmla="val 33917"/>
              <a:gd name="adj2" fmla="val 52116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rot="5400000">
            <a:off x="2304000" y="2350080"/>
            <a:ext cx="754200" cy="540000"/>
          </a:xfrm>
          <a:prstGeom prst="leftArrow">
            <a:avLst>
              <a:gd name="adj1" fmla="val 33917"/>
              <a:gd name="adj2" fmla="val 52116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rot="5400000">
            <a:off x="4212000" y="2350440"/>
            <a:ext cx="754200" cy="539640"/>
          </a:xfrm>
          <a:prstGeom prst="leftArrow">
            <a:avLst>
              <a:gd name="adj1" fmla="val 33917"/>
              <a:gd name="adj2" fmla="val 52151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title"/>
          </p:nvPr>
        </p:nvSpPr>
        <p:spPr>
          <a:xfrm>
            <a:off x="28080" y="6480"/>
            <a:ext cx="670428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hich metal is more re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 flipH="1">
            <a:off x="8315280" y="3860640"/>
            <a:ext cx="433440" cy="0"/>
          </a:xfrm>
          <a:prstGeom prst="line">
            <a:avLst/>
          </a:prstGeom>
          <a:ln w="101520">
            <a:solidFill>
              <a:srgbClr val="9900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4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tterns 4: Reactivity of non-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435640" y="2349360"/>
            <a:ext cx="2374920" cy="609840"/>
          </a:xfrm>
          <a:prstGeom prst="rightArrow">
            <a:avLst>
              <a:gd name="adj1" fmla="val 53120"/>
              <a:gd name="adj2" fmla="val 61426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re 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562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3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4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11280" y="765000"/>
            <a:ext cx="828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are the rules for the reactivity of the non-met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11280" y="1206360"/>
            <a:ext cx="820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. Group 0 is the most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unreactive group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of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39720" y="1671480"/>
            <a:ext cx="7604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2. For the remaining non-metals,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reactivity increas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o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r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of a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755640" y="2460600"/>
            <a:ext cx="6716880" cy="3119040"/>
            <a:chOff x="755640" y="2460600"/>
            <a:chExt cx="6716880" cy="3119040"/>
          </a:xfrm>
        </p:grpSpPr>
        <p:sp>
          <p:nvSpPr>
            <p:cNvPr id="1569" name=""/>
            <p:cNvSpPr/>
            <p:nvPr/>
          </p:nvSpPr>
          <p:spPr>
            <a:xfrm>
              <a:off x="755640" y="2460600"/>
              <a:ext cx="419040" cy="42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55640" y="30286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55640" y="345420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55640" y="38797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55640" y="43052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55640" y="47289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55640" y="51544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4680" y="302868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595520" y="38797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014560" y="387972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174680" y="345420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435400" y="38797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854440" y="387972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75280" y="38797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694320" y="38797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13360" y="38797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33840" y="3879720"/>
              <a:ext cx="41940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953240" y="38797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73720" y="38797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792760" y="387972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213600" y="38797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174680" y="387972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595520" y="43052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014560" y="4305240"/>
              <a:ext cx="4208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35400" y="43052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854440" y="4305240"/>
              <a:ext cx="4208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75280" y="43052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694320" y="43052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533840" y="4305240"/>
              <a:ext cx="41940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953240" y="430524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73720" y="43052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792760" y="4305240"/>
              <a:ext cx="4208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213600" y="43052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32640" y="430524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174680" y="4305240"/>
              <a:ext cx="4208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113360" y="430524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174680" y="47289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014560" y="47289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35400" y="47289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854440" y="47289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275280" y="47289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694320" y="47289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113360" y="47289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53240" y="47289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373720" y="47289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792760" y="47289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13600" y="47289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32640" y="47289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51680" y="472896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595520" y="47289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33840" y="4728960"/>
              <a:ext cx="41940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174680" y="515448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014560" y="515448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35400" y="51544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854440" y="515448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275280" y="51544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694320" y="51544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113360" y="515448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953240" y="515448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73720" y="51544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595520" y="515448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533840" y="5154480"/>
              <a:ext cx="41940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792760" y="3454200"/>
              <a:ext cx="4208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2" name=""/>
          <p:cNvSpPr/>
          <p:nvPr/>
        </p:nvSpPr>
        <p:spPr>
          <a:xfrm>
            <a:off x="7051680" y="387972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472520" y="387972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891560" y="3879720"/>
            <a:ext cx="42048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051680" y="4305240"/>
            <a:ext cx="42084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472520" y="472932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632640" y="345456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32640" y="302904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051680" y="302904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051680" y="3454560"/>
            <a:ext cx="4208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72520" y="345456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472520" y="302904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891560" y="3030480"/>
            <a:ext cx="42048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891560" y="3456000"/>
            <a:ext cx="42048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891560" y="4729320"/>
            <a:ext cx="42048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472520" y="4305240"/>
            <a:ext cx="41904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213600" y="345456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891560" y="4305240"/>
            <a:ext cx="42048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891560" y="2604960"/>
            <a:ext cx="42048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792760" y="302904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213600" y="302904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632640" y="387972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16200000">
            <a:off x="4212360" y="3715560"/>
            <a:ext cx="2303280" cy="720720"/>
          </a:xfrm>
          <a:prstGeom prst="rightArrow">
            <a:avLst>
              <a:gd name="adj1" fmla="val 50009"/>
              <a:gd name="adj2" fmla="val 67082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re 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1280" y="5734080"/>
            <a:ext cx="828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ich is the most reactive non-me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885080" y="2587680"/>
            <a:ext cx="432000" cy="257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604360" y="2641680"/>
            <a:ext cx="358560" cy="246996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140360" y="1998720"/>
            <a:ext cx="249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up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2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2268360" y="1728720"/>
            <a:ext cx="410400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on (Ne) or iodine (I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400" y="1080"/>
            <a:ext cx="7221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hich non-metal is more re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754200" y="2422440"/>
            <a:ext cx="6716160" cy="3119040"/>
            <a:chOff x="754200" y="2422440"/>
            <a:chExt cx="6716160" cy="3119040"/>
          </a:xfrm>
        </p:grpSpPr>
        <p:sp>
          <p:nvSpPr>
            <p:cNvPr id="1661" name=""/>
            <p:cNvSpPr/>
            <p:nvPr/>
          </p:nvSpPr>
          <p:spPr>
            <a:xfrm>
              <a:off x="754200" y="2422440"/>
              <a:ext cx="418680" cy="42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4200" y="29905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4200" y="341604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420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420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420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420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172880" y="29905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59372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12760" y="38415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172880" y="341604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43360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852640" y="38415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27348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9252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111560" y="384156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32040" y="384156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51440" y="384156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7192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790960" y="38415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11800" y="384156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172880" y="384156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59372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012760" y="426708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43360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852640" y="426708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27348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9252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532040" y="4267080"/>
              <a:ext cx="41904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51440" y="4267080"/>
              <a:ext cx="42012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37192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90960" y="426708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21180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30840" y="4267080"/>
              <a:ext cx="4186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72880" y="4267080"/>
              <a:ext cx="42048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111560" y="4267080"/>
              <a:ext cx="420120" cy="423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17288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01276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43360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85264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27348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9252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111560" y="469080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951440" y="469080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37192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79096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21180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63084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049880" y="469080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93720" y="469080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532040" y="469080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172880" y="51163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012760" y="51163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43360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52640" y="511632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27348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69252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111560" y="511632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51440" y="5116320"/>
              <a:ext cx="42012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37192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93720" y="5116320"/>
              <a:ext cx="4186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532040" y="5116320"/>
              <a:ext cx="41904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790960" y="3416040"/>
              <a:ext cx="420480" cy="425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7050240" y="3841920"/>
            <a:ext cx="42048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470720" y="3841920"/>
            <a:ext cx="4190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889760" y="3841920"/>
            <a:ext cx="42084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50240" y="4267080"/>
            <a:ext cx="42048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470720" y="469116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630840" y="3416400"/>
            <a:ext cx="41940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630840" y="2990880"/>
            <a:ext cx="41940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050240" y="2990880"/>
            <a:ext cx="42048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050240" y="3416400"/>
            <a:ext cx="42048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470720" y="341640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70720" y="299088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889760" y="299232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89760" y="341784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889760" y="4691160"/>
            <a:ext cx="4208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470720" y="4267080"/>
            <a:ext cx="41904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211800" y="341640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889760" y="4267080"/>
            <a:ext cx="420840" cy="42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889760" y="2567160"/>
            <a:ext cx="420840" cy="4237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306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791320" y="2990880"/>
            <a:ext cx="42048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211800" y="2990880"/>
            <a:ext cx="419040" cy="4255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630840" y="3841920"/>
            <a:ext cx="419400" cy="425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268360" y="1728720"/>
            <a:ext cx="410400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xygen (O) or silicon (Si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278080" y="1728720"/>
            <a:ext cx="4091040" cy="8254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luorine (F) or chlorine (Cl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68360" y="1738440"/>
            <a:ext cx="410400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bon (C) or oxygen (O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749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0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1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1280" y="779400"/>
            <a:ext cx="85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rom the positions of thes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non-metal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periodic table, which non-metal in the pair is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more reactiv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4751640" y="2350440"/>
            <a:ext cx="754200" cy="539640"/>
          </a:xfrm>
          <a:prstGeom prst="leftArrow">
            <a:avLst>
              <a:gd name="adj1" fmla="val 33917"/>
              <a:gd name="adj2" fmla="val 52151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5400000">
            <a:off x="2700720" y="2350440"/>
            <a:ext cx="754200" cy="539640"/>
          </a:xfrm>
          <a:prstGeom prst="leftArrow">
            <a:avLst>
              <a:gd name="adj1" fmla="val 33917"/>
              <a:gd name="adj2" fmla="val 52151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5400000">
            <a:off x="2700720" y="2350440"/>
            <a:ext cx="754200" cy="539640"/>
          </a:xfrm>
          <a:prstGeom prst="leftArrow">
            <a:avLst>
              <a:gd name="adj1" fmla="val 33917"/>
              <a:gd name="adj2" fmla="val 52151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5400000">
            <a:off x="4751640" y="2350440"/>
            <a:ext cx="754200" cy="539640"/>
          </a:xfrm>
          <a:prstGeom prst="leftArrow">
            <a:avLst>
              <a:gd name="adj1" fmla="val 33917"/>
              <a:gd name="adj2" fmla="val 52151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/>
          <p:nvPr/>
        </p:nvSpPr>
        <p:spPr>
          <a:xfrm>
            <a:off x="971640" y="838080"/>
            <a:ext cx="4968720" cy="71928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907920" y="2062080"/>
            <a:ext cx="252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906480" y="28544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900000" y="447372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925560" y="361008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314360" y="1846440"/>
            <a:ext cx="635328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Elements and atomic number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314360" y="2638440"/>
            <a:ext cx="455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Arranging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392120" y="4218120"/>
            <a:ext cx="4403880" cy="680760"/>
          </a:xfrm>
          <a:prstGeom prst="roundRect">
            <a:avLst>
              <a:gd name="adj" fmla="val 43579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ctron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376280" y="3402000"/>
            <a:ext cx="4780080" cy="6764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Patterns of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7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768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9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0" name=""/>
          <p:cNvSpPr/>
          <p:nvPr/>
        </p:nvSpPr>
        <p:spPr>
          <a:xfrm>
            <a:off x="900000" y="53085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392120" y="5052960"/>
            <a:ext cx="4187880" cy="68112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Teacher</a:t>
            </a: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0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hat are all substances made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41958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o gold, an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unreactive metal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2155680" cy="1263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867280" y="4797360"/>
            <a:ext cx="1747800" cy="1244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92480" y="6931080"/>
            <a:ext cx="65412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797360"/>
            <a:ext cx="61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rom chlorine,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poisonous ga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517760" cy="1098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0400" y="285264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rom sodium,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reactive metal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547640" y="3357720"/>
            <a:ext cx="1905120" cy="114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20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21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960" y="7174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re are millions of different substances in the world but what are they all made o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8960" y="1557360"/>
            <a:ext cx="664704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lemen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building blocks of all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8960" y="220500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re are about 100 different elements in a variety of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59961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o oxygen,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life-giving ga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94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tterns and 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774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5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6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11280" y="159372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links atomic number and the properties of elemen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31800" y="7603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periodic table shows that patterns in the properties of elements are linked to atomic numb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616200" y="2241720"/>
            <a:ext cx="194472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lectr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755640" y="2376360"/>
            <a:ext cx="8229600" cy="588960"/>
            <a:chOff x="755640" y="2376360"/>
            <a:chExt cx="8229600" cy="588960"/>
          </a:xfrm>
        </p:grpSpPr>
        <p:sp>
          <p:nvSpPr>
            <p:cNvPr id="1781" name=""/>
            <p:cNvSpPr/>
            <p:nvPr/>
          </p:nvSpPr>
          <p:spPr>
            <a:xfrm>
              <a:off x="755640" y="237636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528040" y="2508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5640" y="5249880"/>
            <a:ext cx="5486400" cy="458640"/>
            <a:chOff x="755640" y="5249880"/>
            <a:chExt cx="5486400" cy="458640"/>
          </a:xfrm>
        </p:grpSpPr>
        <p:sp>
          <p:nvSpPr>
            <p:cNvPr id="1784" name=""/>
            <p:cNvSpPr/>
            <p:nvPr/>
          </p:nvSpPr>
          <p:spPr>
            <a:xfrm>
              <a:off x="755640" y="52498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212840" y="52498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272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5844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0416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4988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560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4132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276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7848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6700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870440" y="5251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755640" y="3878280"/>
            <a:ext cx="8229600" cy="458640"/>
            <a:chOff x="755640" y="3878280"/>
            <a:chExt cx="8229600" cy="458640"/>
          </a:xfrm>
        </p:grpSpPr>
        <p:sp>
          <p:nvSpPr>
            <p:cNvPr id="1797" name=""/>
            <p:cNvSpPr/>
            <p:nvPr/>
          </p:nvSpPr>
          <p:spPr>
            <a:xfrm>
              <a:off x="755640" y="38782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212840" y="38782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2420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992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1564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136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5280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K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6700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272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5844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0416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4988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9560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4132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8704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3276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7848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Z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070840" y="38797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"/>
          <p:cNvGrpSpPr/>
          <p:nvPr/>
        </p:nvGrpSpPr>
        <p:grpSpPr>
          <a:xfrm>
            <a:off x="755640" y="4792680"/>
            <a:ext cx="8229600" cy="458640"/>
            <a:chOff x="755640" y="4792680"/>
            <a:chExt cx="8229600" cy="458640"/>
          </a:xfrm>
        </p:grpSpPr>
        <p:sp>
          <p:nvSpPr>
            <p:cNvPr id="1816" name=""/>
            <p:cNvSpPr/>
            <p:nvPr/>
          </p:nvSpPr>
          <p:spPr>
            <a:xfrm>
              <a:off x="755640" y="47926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212840" y="47926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2420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6992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1564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136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5280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1272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5844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0416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4988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9560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132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3276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848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H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700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8704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70840" y="47941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5640" y="3421080"/>
            <a:ext cx="8229600" cy="458640"/>
            <a:chOff x="755640" y="3421080"/>
            <a:chExt cx="8229600" cy="458640"/>
          </a:xfrm>
        </p:grpSpPr>
        <p:sp>
          <p:nvSpPr>
            <p:cNvPr id="1835" name=""/>
            <p:cNvSpPr/>
            <p:nvPr/>
          </p:nvSpPr>
          <p:spPr>
            <a:xfrm>
              <a:off x="755640" y="34210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212840" y="34210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2420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6992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1564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6136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5280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070840" y="3422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755640" y="2963880"/>
            <a:ext cx="8229600" cy="458640"/>
            <a:chOff x="755640" y="2963880"/>
            <a:chExt cx="8229600" cy="458640"/>
          </a:xfrm>
        </p:grpSpPr>
        <p:sp>
          <p:nvSpPr>
            <p:cNvPr id="1844" name=""/>
            <p:cNvSpPr/>
            <p:nvPr/>
          </p:nvSpPr>
          <p:spPr>
            <a:xfrm>
              <a:off x="755640" y="29638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212840" y="29638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2420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6992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1564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136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5280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070840" y="29653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755640" y="4335480"/>
            <a:ext cx="8229600" cy="458640"/>
            <a:chOff x="755640" y="4335480"/>
            <a:chExt cx="8229600" cy="458640"/>
          </a:xfrm>
        </p:grpSpPr>
        <p:sp>
          <p:nvSpPr>
            <p:cNvPr id="1853" name=""/>
            <p:cNvSpPr/>
            <p:nvPr/>
          </p:nvSpPr>
          <p:spPr>
            <a:xfrm>
              <a:off x="755640" y="43354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212840" y="43354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2420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6992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1564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6136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5280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6700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1272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Z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5844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N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0416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4988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9560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704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3276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7848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4132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R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070840" y="43369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1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2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2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500"/>
                            </p:stCondLst>
                            <p:childTnLst>
                              <p:par>
                                <p:cTn id="1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2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94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tterns and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11280" y="3645000"/>
            <a:ext cx="576108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omic number = number of 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19200" y="4149720"/>
            <a:ext cx="8421480" cy="4604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omic number = number of electrons in element’s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875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6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7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11280" y="7491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properties of elements are hugely influenced by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number and arrangement of electr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11280" y="1628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links atomic number and the number of electr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690560" y="2205000"/>
            <a:ext cx="1094040" cy="1295280"/>
          </a:xfrm>
          <a:custGeom>
            <a:avLst/>
            <a:gdLst>
              <a:gd name="textAreaLeft" fmla="*/ 53280 w 1094040"/>
              <a:gd name="textAreaRight" fmla="*/ 1040760 w 1094040"/>
              <a:gd name="textAreaTop" fmla="*/ 53280 h 1295280"/>
              <a:gd name="textAreaBottom" fmla="*/ 1242000 h 1295280"/>
            </a:gdLst>
            <a:ahLst/>
            <a:rect l="textAreaLeft" t="textAreaTop" r="textAreaRight" b="textAreaBottom"/>
            <a:pathLst>
              <a:path w="21600" h="25572">
                <a:moveTo>
                  <a:pt x="3600" y="0"/>
                </a:moveTo>
                <a:arcTo wR="3600" hR="3600" stAng="16200000" swAng="-5400000"/>
                <a:lnTo>
                  <a:pt x="0" y="21972"/>
                </a:lnTo>
                <a:arcTo wR="3600" hR="3600" stAng="10800000" swAng="-5400000"/>
                <a:lnTo>
                  <a:pt x="18000" y="25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82560" y="3184560"/>
            <a:ext cx="576360" cy="388800"/>
          </a:xfrm>
          <a:custGeom>
            <a:avLst/>
            <a:gdLst>
              <a:gd name="textAreaLeft" fmla="*/ 0 w 576360"/>
              <a:gd name="textAreaRight" fmla="*/ 576720 w 5763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781" stAng="10800000" swAng="5400000"/>
                <a:lnTo>
                  <a:pt x="14718" y="2379"/>
                </a:lnTo>
                <a:lnTo>
                  <a:pt x="14718" y="0"/>
                </a:lnTo>
                <a:lnTo>
                  <a:pt x="21600" y="6079"/>
                </a:lnTo>
                <a:lnTo>
                  <a:pt x="14718" y="12158"/>
                </a:lnTo>
                <a:lnTo>
                  <a:pt x="14718" y="9779"/>
                </a:lnTo>
                <a:lnTo>
                  <a:pt x="12427" y="9779"/>
                </a:lnTo>
                <a:arcTo wR="5027" hR="2381" stAng="16200000" swAng="-5400000"/>
                <a:lnTo>
                  <a:pt x="7400" y="21600"/>
                </a:lnTo>
                <a:close/>
              </a:path>
            </a:pathLst>
          </a:cu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973240" y="2205000"/>
            <a:ext cx="1094040" cy="1295280"/>
          </a:xfrm>
          <a:custGeom>
            <a:avLst/>
            <a:gdLst>
              <a:gd name="textAreaLeft" fmla="*/ 53280 w 1094040"/>
              <a:gd name="textAreaRight" fmla="*/ 1040760 w 1094040"/>
              <a:gd name="textAreaTop" fmla="*/ 53280 h 1295280"/>
              <a:gd name="textAreaBottom" fmla="*/ 1242000 h 1295280"/>
            </a:gdLst>
            <a:ahLst/>
            <a:rect l="textAreaLeft" t="textAreaTop" r="textAreaRight" b="textAreaBottom"/>
            <a:pathLst>
              <a:path w="21600" h="25572">
                <a:moveTo>
                  <a:pt x="3600" y="0"/>
                </a:moveTo>
                <a:arcTo wR="3600" hR="3600" stAng="16200000" swAng="-5400000"/>
                <a:lnTo>
                  <a:pt x="0" y="21972"/>
                </a:lnTo>
                <a:arcTo wR="3600" hR="3600" stAng="10800000" swAng="-5400000"/>
                <a:lnTo>
                  <a:pt x="18000" y="25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282920" y="2205000"/>
            <a:ext cx="1094040" cy="1295280"/>
          </a:xfrm>
          <a:custGeom>
            <a:avLst/>
            <a:gdLst>
              <a:gd name="textAreaLeft" fmla="*/ 53280 w 1094040"/>
              <a:gd name="textAreaRight" fmla="*/ 1040760 w 1094040"/>
              <a:gd name="textAreaTop" fmla="*/ 53280 h 1295280"/>
              <a:gd name="textAreaBottom" fmla="*/ 1242000 h 1295280"/>
            </a:gdLst>
            <a:ahLst/>
            <a:rect l="textAreaLeft" t="textAreaTop" r="textAreaRight" b="textAreaBottom"/>
            <a:pathLst>
              <a:path w="21600" h="25572">
                <a:moveTo>
                  <a:pt x="3600" y="0"/>
                </a:moveTo>
                <a:arcTo wR="3600" hR="3600" stAng="16200000" swAng="-5400000"/>
                <a:lnTo>
                  <a:pt x="0" y="21972"/>
                </a:lnTo>
                <a:arcTo wR="3600" hR="3600" stAng="10800000" swAng="-5400000"/>
                <a:lnTo>
                  <a:pt x="18000" y="25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62680" y="2205000"/>
            <a:ext cx="1094040" cy="1295280"/>
          </a:xfrm>
          <a:custGeom>
            <a:avLst/>
            <a:gdLst>
              <a:gd name="textAreaLeft" fmla="*/ 53280 w 1094040"/>
              <a:gd name="textAreaRight" fmla="*/ 1040760 w 1094040"/>
              <a:gd name="textAreaTop" fmla="*/ 53280 h 1295280"/>
              <a:gd name="textAreaBottom" fmla="*/ 1242000 h 1295280"/>
            </a:gdLst>
            <a:ahLst/>
            <a:rect l="textAreaLeft" t="textAreaTop" r="textAreaRight" b="textAreaBottom"/>
            <a:pathLst>
              <a:path w="21600" h="25572">
                <a:moveTo>
                  <a:pt x="3600" y="0"/>
                </a:moveTo>
                <a:arcTo wR="3600" hR="3600" stAng="16200000" swAng="-5400000"/>
                <a:lnTo>
                  <a:pt x="0" y="21972"/>
                </a:lnTo>
                <a:arcTo wR="3600" hR="3600" stAng="10800000" swAng="-5400000"/>
                <a:lnTo>
                  <a:pt x="18000" y="25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580000" y="2205000"/>
            <a:ext cx="1093680" cy="1295280"/>
          </a:xfrm>
          <a:custGeom>
            <a:avLst/>
            <a:gdLst>
              <a:gd name="textAreaLeft" fmla="*/ 53280 w 1093680"/>
              <a:gd name="textAreaRight" fmla="*/ 1040400 w 1093680"/>
              <a:gd name="textAreaTop" fmla="*/ 53280 h 1295280"/>
              <a:gd name="textAreaBottom" fmla="*/ 1242000 h 1295280"/>
            </a:gdLst>
            <a:ahLst/>
            <a:rect l="textAreaLeft" t="textAreaTop" r="textAreaRight" b="textAreaBottom"/>
            <a:pathLst>
              <a:path w="21600" h="25580">
                <a:moveTo>
                  <a:pt x="3600" y="0"/>
                </a:moveTo>
                <a:arcTo wR="3600" hR="3600" stAng="16200000" swAng="-5400000"/>
                <a:lnTo>
                  <a:pt x="0" y="21980"/>
                </a:lnTo>
                <a:arcTo wR="3600" hR="3600" stAng="10800000" swAng="-5400000"/>
                <a:lnTo>
                  <a:pt x="18000" y="255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11280" y="4732200"/>
            <a:ext cx="8640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s atomic number increases by one, the number of electrons also increases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o the elements in the periodic table are also arranged in order of the number of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1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59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tterns and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889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0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1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1800" y="1316160"/>
            <a:ext cx="79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ow is layout of the periodic table related to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number and arrangement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f electrons in these she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11280" y="7444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lectrons are arranged in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hell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ound an atom’s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2460600"/>
            <a:ext cx="129528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8448840" y="2960280"/>
            <a:ext cx="1800" cy="397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924360" y="2448000"/>
            <a:ext cx="129528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829400" y="2947680"/>
            <a:ext cx="1800" cy="397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60280" y="2435400"/>
            <a:ext cx="129564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165680" y="2935080"/>
            <a:ext cx="1800" cy="397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11280" y="45752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point at which a new period starts is the point at which electrons begin to fill a new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11280" y="54928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ow many electrons can the first three electron shells h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243000" y="3421080"/>
            <a:ext cx="8672400" cy="458280"/>
            <a:chOff x="243000" y="3421080"/>
            <a:chExt cx="8672400" cy="458280"/>
          </a:xfrm>
        </p:grpSpPr>
        <p:sp>
          <p:nvSpPr>
            <p:cNvPr id="1903" name=""/>
            <p:cNvSpPr/>
            <p:nvPr/>
          </p:nvSpPr>
          <p:spPr>
            <a:xfrm>
              <a:off x="8458200" y="3421080"/>
              <a:ext cx="457200" cy="4568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43000" y="3422520"/>
              <a:ext cx="457200" cy="4568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168560" y="3421080"/>
              <a:ext cx="457200" cy="4568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800600" y="3421080"/>
              <a:ext cx="457200" cy="4568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620720" y="34210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257800" y="342252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715000" y="342252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629400" y="34210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97360" y="34210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454560" y="34210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86600" y="34210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543800" y="3421080"/>
              <a:ext cx="457200" cy="4568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911760" y="3421080"/>
              <a:ext cx="457200" cy="4568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368960" y="3421080"/>
              <a:ext cx="457200" cy="456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001000" y="3421080"/>
              <a:ext cx="457200" cy="456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172200" y="34210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08120" y="3421080"/>
              <a:ext cx="457200" cy="456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081160" y="34210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540160" y="34210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246240" y="3878280"/>
            <a:ext cx="8669160" cy="458280"/>
            <a:chOff x="246240" y="3878280"/>
            <a:chExt cx="8669160" cy="458280"/>
          </a:xfrm>
        </p:grpSpPr>
        <p:sp>
          <p:nvSpPr>
            <p:cNvPr id="1923" name=""/>
            <p:cNvSpPr/>
            <p:nvPr/>
          </p:nvSpPr>
          <p:spPr>
            <a:xfrm>
              <a:off x="8458200" y="3878280"/>
              <a:ext cx="457200" cy="4568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46240" y="3879720"/>
              <a:ext cx="45720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163520" y="3878280"/>
              <a:ext cx="457200" cy="4568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800600" y="3878280"/>
              <a:ext cx="457200" cy="4568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623960" y="38782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257800" y="3879720"/>
              <a:ext cx="457200" cy="456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715000" y="3879720"/>
              <a:ext cx="457200" cy="456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629400" y="3878280"/>
              <a:ext cx="457200" cy="456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997360" y="38782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454560" y="38782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086600" y="3878280"/>
              <a:ext cx="457200" cy="456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543800" y="3878280"/>
              <a:ext cx="45720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911760" y="3878280"/>
              <a:ext cx="45720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368960" y="3878280"/>
              <a:ext cx="457200" cy="456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001000" y="3878280"/>
              <a:ext cx="457200" cy="456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172200" y="3878280"/>
              <a:ext cx="457200" cy="456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06320" y="3878280"/>
              <a:ext cx="457200" cy="456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084400" y="38782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540160" y="3878280"/>
              <a:ext cx="457200" cy="45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2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2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9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9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ules for electron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434280" y="5373720"/>
            <a:ext cx="1450800" cy="64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945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6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7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31800" y="1268280"/>
            <a:ext cx="818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rules for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maximum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number of electrons shells in the first three shell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68360" y="2467080"/>
            <a:ext cx="2617920" cy="2617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843120" y="2841480"/>
            <a:ext cx="1868400" cy="186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224000" y="3222720"/>
            <a:ext cx="1106280" cy="110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677960" y="4221000"/>
            <a:ext cx="274680" cy="276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614600" y="3130560"/>
            <a:ext cx="274680" cy="276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314440" y="4262400"/>
            <a:ext cx="276480" cy="276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266920" y="3003480"/>
            <a:ext cx="279360" cy="276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581200" y="3692520"/>
            <a:ext cx="276480" cy="27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614600" y="2724120"/>
            <a:ext cx="274680" cy="276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957240" y="3003480"/>
            <a:ext cx="276120" cy="276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09560" y="3660840"/>
            <a:ext cx="276120" cy="27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925560" y="4344840"/>
            <a:ext cx="279360" cy="279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706400" y="4595760"/>
            <a:ext cx="274680" cy="276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692360" y="2349360"/>
            <a:ext cx="274680" cy="276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716120" y="4976640"/>
            <a:ext cx="274680" cy="276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11280" y="7444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lectrons are arranged in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hell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ound an atom’s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276720" y="2708280"/>
            <a:ext cx="5543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shell maximum  = 2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276720" y="3465360"/>
            <a:ext cx="5543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 shell maximum =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276720" y="4257720"/>
            <a:ext cx="55432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rd shell maximum  =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928960" y="3700440"/>
            <a:ext cx="274680" cy="276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627280" y="2792520"/>
            <a:ext cx="274680" cy="276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641680" y="4521240"/>
            <a:ext cx="274680" cy="276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4360" y="4581360"/>
            <a:ext cx="279360" cy="279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24000" y="3654360"/>
            <a:ext cx="279360" cy="279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55640" y="2644920"/>
            <a:ext cx="279360" cy="279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76160" y="5516640"/>
            <a:ext cx="81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is electron arrangement is written 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"/>
                            </p:stCondLst>
                            <p:childTnLst>
                              <p:par>
                                <p:cTn id="1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10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1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9" dur="1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5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976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7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8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31800" y="76032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lements in Period 1 only have electrons in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first shell</a:t>
            </a:r>
            <a:r>
              <a:rPr b="0" lang="en-GB" sz="2400" spc="-1" strike="noStrike">
                <a:solidFill>
                  <a:srgbClr val="01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955800" y="2892600"/>
            <a:ext cx="333360" cy="33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084320" y="2859120"/>
            <a:ext cx="79200" cy="792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8377200" y="2859120"/>
            <a:ext cx="333360" cy="406440"/>
            <a:chOff x="8377200" y="2859120"/>
            <a:chExt cx="333360" cy="406440"/>
          </a:xfrm>
        </p:grpSpPr>
        <p:sp>
          <p:nvSpPr>
            <p:cNvPr id="1983" name=""/>
            <p:cNvSpPr/>
            <p:nvPr/>
          </p:nvSpPr>
          <p:spPr>
            <a:xfrm>
              <a:off x="8377200" y="2892600"/>
              <a:ext cx="333360" cy="33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501040" y="318600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494560" y="285912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57360" y="414828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8093160" y="414828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7270920" y="2062080"/>
            <a:ext cx="40608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180120" y="20620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110200" y="20620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116240" y="205272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081240" y="205272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874880" y="205740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905040" y="2057400"/>
            <a:ext cx="40608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292960" y="20620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24000" y="287640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57360" y="367992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8093160" y="367992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57360" y="4862520"/>
            <a:ext cx="84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first shell can only hold a maximum of two electr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o Period 1 only includes the elements hydrogen and helium</a:t>
            </a:r>
            <a:r>
              <a:rPr b="0" lang="en-GB" sz="2400" spc="-1" strike="noStrike">
                <a:solidFill>
                  <a:srgbClr val="01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31800" y="131616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y are there only two elements in Period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55560" y="5776920"/>
            <a:ext cx="84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special about the outer shell of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5480" y="1440"/>
            <a:ext cx="5124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Peri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8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1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1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1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10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0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5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3" name=""/>
          <p:cNvGrpSpPr/>
          <p:nvPr/>
        </p:nvGrpSpPr>
        <p:grpSpPr>
          <a:xfrm>
            <a:off x="879480" y="2776680"/>
            <a:ext cx="563400" cy="563400"/>
            <a:chOff x="879480" y="2776680"/>
            <a:chExt cx="563400" cy="563400"/>
          </a:xfrm>
        </p:grpSpPr>
        <p:grpSp>
          <p:nvGrpSpPr>
            <p:cNvPr id="2004" name=""/>
            <p:cNvGrpSpPr/>
            <p:nvPr/>
          </p:nvGrpSpPr>
          <p:grpSpPr>
            <a:xfrm>
              <a:off x="879480" y="2776680"/>
              <a:ext cx="563400" cy="563400"/>
              <a:chOff x="879480" y="2776680"/>
              <a:chExt cx="563400" cy="563400"/>
            </a:xfrm>
          </p:grpSpPr>
          <p:sp>
            <p:nvSpPr>
              <p:cNvPr id="2005" name=""/>
              <p:cNvSpPr/>
              <p:nvPr/>
            </p:nvSpPr>
            <p:spPr>
              <a:xfrm>
                <a:off x="879480" y="277668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995400" y="28908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7" name=""/>
            <p:cNvSpPr/>
            <p:nvPr/>
          </p:nvSpPr>
          <p:spPr>
            <a:xfrm>
              <a:off x="1114560" y="319104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123920" y="285768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1793880" y="2776680"/>
            <a:ext cx="563400" cy="563400"/>
            <a:chOff x="1793880" y="2776680"/>
            <a:chExt cx="563400" cy="563400"/>
          </a:xfrm>
        </p:grpSpPr>
        <p:grpSp>
          <p:nvGrpSpPr>
            <p:cNvPr id="2010" name=""/>
            <p:cNvGrpSpPr/>
            <p:nvPr/>
          </p:nvGrpSpPr>
          <p:grpSpPr>
            <a:xfrm>
              <a:off x="1793880" y="2776680"/>
              <a:ext cx="563400" cy="563400"/>
              <a:chOff x="1793880" y="2776680"/>
              <a:chExt cx="563400" cy="563400"/>
            </a:xfrm>
          </p:grpSpPr>
          <p:sp>
            <p:nvSpPr>
              <p:cNvPr id="2011" name=""/>
              <p:cNvSpPr/>
              <p:nvPr/>
            </p:nvSpPr>
            <p:spPr>
              <a:xfrm>
                <a:off x="1793880" y="277668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909800" y="28908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2048040" y="318132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028960" y="284796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2898720" y="2776680"/>
            <a:ext cx="563400" cy="563400"/>
            <a:chOff x="2898720" y="2776680"/>
            <a:chExt cx="563400" cy="563400"/>
          </a:xfrm>
        </p:grpSpPr>
        <p:grpSp>
          <p:nvGrpSpPr>
            <p:cNvPr id="2016" name=""/>
            <p:cNvGrpSpPr/>
            <p:nvPr/>
          </p:nvGrpSpPr>
          <p:grpSpPr>
            <a:xfrm>
              <a:off x="2898720" y="2776680"/>
              <a:ext cx="563400" cy="563400"/>
              <a:chOff x="2898720" y="2776680"/>
              <a:chExt cx="563400" cy="563400"/>
            </a:xfrm>
          </p:grpSpPr>
          <p:sp>
            <p:nvSpPr>
              <p:cNvPr id="2017" name=""/>
              <p:cNvSpPr/>
              <p:nvPr/>
            </p:nvSpPr>
            <p:spPr>
              <a:xfrm>
                <a:off x="2898720" y="277668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014640" y="28908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9" name=""/>
            <p:cNvSpPr/>
            <p:nvPr/>
          </p:nvSpPr>
          <p:spPr>
            <a:xfrm>
              <a:off x="3156120" y="285768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143160" y="317196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4994280" y="2776680"/>
            <a:ext cx="563400" cy="563400"/>
            <a:chOff x="4994280" y="2776680"/>
            <a:chExt cx="563400" cy="563400"/>
          </a:xfrm>
        </p:grpSpPr>
        <p:grpSp>
          <p:nvGrpSpPr>
            <p:cNvPr id="2022" name=""/>
            <p:cNvGrpSpPr/>
            <p:nvPr/>
          </p:nvGrpSpPr>
          <p:grpSpPr>
            <a:xfrm>
              <a:off x="4994280" y="2776680"/>
              <a:ext cx="563400" cy="563400"/>
              <a:chOff x="4994280" y="2776680"/>
              <a:chExt cx="563400" cy="563400"/>
            </a:xfrm>
          </p:grpSpPr>
          <p:sp>
            <p:nvSpPr>
              <p:cNvPr id="2023" name=""/>
              <p:cNvSpPr/>
              <p:nvPr/>
            </p:nvSpPr>
            <p:spPr>
              <a:xfrm>
                <a:off x="4994280" y="277668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110200" y="28908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5" name=""/>
            <p:cNvSpPr/>
            <p:nvPr/>
          </p:nvSpPr>
          <p:spPr>
            <a:xfrm>
              <a:off x="5246640" y="318132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235480" y="28526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6060960" y="2776680"/>
            <a:ext cx="563400" cy="563400"/>
            <a:chOff x="6060960" y="2776680"/>
            <a:chExt cx="563400" cy="563400"/>
          </a:xfrm>
        </p:grpSpPr>
        <p:grpSp>
          <p:nvGrpSpPr>
            <p:cNvPr id="2028" name=""/>
            <p:cNvGrpSpPr/>
            <p:nvPr/>
          </p:nvGrpSpPr>
          <p:grpSpPr>
            <a:xfrm>
              <a:off x="6060960" y="2776680"/>
              <a:ext cx="563400" cy="563400"/>
              <a:chOff x="6060960" y="2776680"/>
              <a:chExt cx="563400" cy="563400"/>
            </a:xfrm>
          </p:grpSpPr>
          <p:sp>
            <p:nvSpPr>
              <p:cNvPr id="2029" name=""/>
              <p:cNvSpPr/>
              <p:nvPr/>
            </p:nvSpPr>
            <p:spPr>
              <a:xfrm>
                <a:off x="6060960" y="277668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176880" y="28908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1" name=""/>
            <p:cNvSpPr/>
            <p:nvPr/>
          </p:nvSpPr>
          <p:spPr>
            <a:xfrm>
              <a:off x="6308640" y="285768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315120" y="318132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120080" y="2776680"/>
            <a:ext cx="563400" cy="563400"/>
            <a:chOff x="7120080" y="2776680"/>
            <a:chExt cx="563400" cy="563400"/>
          </a:xfrm>
        </p:grpSpPr>
        <p:grpSp>
          <p:nvGrpSpPr>
            <p:cNvPr id="2034" name=""/>
            <p:cNvGrpSpPr/>
            <p:nvPr/>
          </p:nvGrpSpPr>
          <p:grpSpPr>
            <a:xfrm>
              <a:off x="7120080" y="2776680"/>
              <a:ext cx="563400" cy="563400"/>
              <a:chOff x="7120080" y="2776680"/>
              <a:chExt cx="563400" cy="563400"/>
            </a:xfrm>
          </p:grpSpPr>
          <p:sp>
            <p:nvSpPr>
              <p:cNvPr id="2035" name=""/>
              <p:cNvSpPr/>
              <p:nvPr/>
            </p:nvSpPr>
            <p:spPr>
              <a:xfrm>
                <a:off x="7120080" y="277668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235640" y="2890800"/>
                <a:ext cx="33300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7362720" y="284796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362720" y="319104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8186760" y="2776680"/>
            <a:ext cx="563400" cy="563400"/>
            <a:chOff x="8186760" y="2776680"/>
            <a:chExt cx="563400" cy="563400"/>
          </a:xfrm>
        </p:grpSpPr>
        <p:sp>
          <p:nvSpPr>
            <p:cNvPr id="2040" name=""/>
            <p:cNvSpPr/>
            <p:nvPr/>
          </p:nvSpPr>
          <p:spPr>
            <a:xfrm>
              <a:off x="8186760" y="2776680"/>
              <a:ext cx="563400" cy="56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302680" y="2890800"/>
              <a:ext cx="333360" cy="33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8426520" y="318456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8420040" y="285768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4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045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6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7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31800" y="760320"/>
            <a:ext cx="83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lements in Period 2 all have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complete first shell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11280" y="414648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644480" y="414648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828880" y="4146480"/>
            <a:ext cx="9349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879720" y="4149720"/>
            <a:ext cx="93528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921200" y="4141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952960" y="414648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991200" y="4143240"/>
            <a:ext cx="93528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8047080" y="414648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300800" y="20606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210360" y="20606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140440" y="20606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146480" y="205092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111480" y="205092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1905120" y="205596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934920" y="205596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8323200" y="20606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77920" y="2874960"/>
            <a:ext cx="40644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611280" y="367812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644480" y="367812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828880" y="368316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879720" y="368316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921200" y="367812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952960" y="367812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991200" y="367812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8047080" y="367812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4" name=""/>
          <p:cNvGrpSpPr/>
          <p:nvPr/>
        </p:nvGrpSpPr>
        <p:grpSpPr>
          <a:xfrm>
            <a:off x="3927600" y="2776680"/>
            <a:ext cx="563400" cy="563400"/>
            <a:chOff x="3927600" y="2776680"/>
            <a:chExt cx="563400" cy="563400"/>
          </a:xfrm>
        </p:grpSpPr>
        <p:grpSp>
          <p:nvGrpSpPr>
            <p:cNvPr id="2075" name=""/>
            <p:cNvGrpSpPr/>
            <p:nvPr/>
          </p:nvGrpSpPr>
          <p:grpSpPr>
            <a:xfrm>
              <a:off x="3927600" y="2776680"/>
              <a:ext cx="563400" cy="563400"/>
              <a:chOff x="3927600" y="2776680"/>
              <a:chExt cx="563400" cy="563400"/>
            </a:xfrm>
          </p:grpSpPr>
          <p:sp>
            <p:nvSpPr>
              <p:cNvPr id="2076" name=""/>
              <p:cNvSpPr/>
              <p:nvPr/>
            </p:nvSpPr>
            <p:spPr>
              <a:xfrm>
                <a:off x="3927600" y="277668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043160" y="2890800"/>
                <a:ext cx="33300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8" name=""/>
            <p:cNvSpPr/>
            <p:nvPr/>
          </p:nvSpPr>
          <p:spPr>
            <a:xfrm>
              <a:off x="4184640" y="286380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172040" y="317808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611280" y="486108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second shell is completed one electron at a time going across Period 2 from left to right</a:t>
            </a:r>
            <a:r>
              <a:rPr b="0" lang="en-GB" sz="2400" spc="-1" strike="noStrike">
                <a:solidFill>
                  <a:srgbClr val="01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special about the outer shell of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N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31800" y="1316160"/>
            <a:ext cx="83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happens to electrons in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econd shell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Period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135080" y="2727360"/>
            <a:ext cx="79200" cy="792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050920" y="2727360"/>
            <a:ext cx="79560" cy="792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044800" y="3278160"/>
            <a:ext cx="79200" cy="79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3124080" y="2733840"/>
            <a:ext cx="378000" cy="657000"/>
            <a:chOff x="3124080" y="2733840"/>
            <a:chExt cx="378000" cy="657000"/>
          </a:xfrm>
        </p:grpSpPr>
        <p:sp>
          <p:nvSpPr>
            <p:cNvPr id="2086" name=""/>
            <p:cNvSpPr/>
            <p:nvPr/>
          </p:nvSpPr>
          <p:spPr>
            <a:xfrm>
              <a:off x="3124080" y="331164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146400" y="273384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22520" y="302256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9" name=""/>
          <p:cNvGrpSpPr/>
          <p:nvPr/>
        </p:nvGrpSpPr>
        <p:grpSpPr>
          <a:xfrm>
            <a:off x="3886200" y="2730600"/>
            <a:ext cx="647640" cy="644400"/>
            <a:chOff x="3886200" y="2730600"/>
            <a:chExt cx="647640" cy="644400"/>
          </a:xfrm>
        </p:grpSpPr>
        <p:sp>
          <p:nvSpPr>
            <p:cNvPr id="2090" name=""/>
            <p:cNvSpPr/>
            <p:nvPr/>
          </p:nvSpPr>
          <p:spPr>
            <a:xfrm>
              <a:off x="4181400" y="329580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78160" y="273060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454640" y="301320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886200" y="300996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4952880" y="2739960"/>
            <a:ext cx="646200" cy="638280"/>
            <a:chOff x="4952880" y="2739960"/>
            <a:chExt cx="646200" cy="638280"/>
          </a:xfrm>
        </p:grpSpPr>
        <p:sp>
          <p:nvSpPr>
            <p:cNvPr id="2095" name=""/>
            <p:cNvSpPr/>
            <p:nvPr/>
          </p:nvSpPr>
          <p:spPr>
            <a:xfrm>
              <a:off x="5241960" y="273996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54560" y="329868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519880" y="301320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435640" y="283536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952880" y="301320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"/>
          <p:cNvGrpSpPr/>
          <p:nvPr/>
        </p:nvGrpSpPr>
        <p:grpSpPr>
          <a:xfrm>
            <a:off x="6013440" y="2739960"/>
            <a:ext cx="647640" cy="641520"/>
            <a:chOff x="6013440" y="2739960"/>
            <a:chExt cx="647640" cy="641520"/>
          </a:xfrm>
        </p:grpSpPr>
        <p:sp>
          <p:nvSpPr>
            <p:cNvPr id="2101" name=""/>
            <p:cNvSpPr/>
            <p:nvPr/>
          </p:nvSpPr>
          <p:spPr>
            <a:xfrm>
              <a:off x="6316560" y="273996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581880" y="303228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311880" y="330192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508800" y="284472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516720" y="320364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013440" y="302256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7080120" y="2733840"/>
            <a:ext cx="631800" cy="641160"/>
            <a:chOff x="7080120" y="2733840"/>
            <a:chExt cx="631800" cy="641160"/>
          </a:xfrm>
        </p:grpSpPr>
        <p:sp>
          <p:nvSpPr>
            <p:cNvPr id="2108" name=""/>
            <p:cNvSpPr/>
            <p:nvPr/>
          </p:nvSpPr>
          <p:spPr>
            <a:xfrm>
              <a:off x="7145280" y="320364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372440" y="273384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632720" y="302580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575480" y="283212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080120" y="301608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359480" y="329580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586640" y="318600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5" name=""/>
          <p:cNvGrpSpPr/>
          <p:nvPr/>
        </p:nvGrpSpPr>
        <p:grpSpPr>
          <a:xfrm>
            <a:off x="8142120" y="2736720"/>
            <a:ext cx="640080" cy="641520"/>
            <a:chOff x="8142120" y="2736720"/>
            <a:chExt cx="640080" cy="641520"/>
          </a:xfrm>
        </p:grpSpPr>
        <p:sp>
          <p:nvSpPr>
            <p:cNvPr id="2116" name=""/>
            <p:cNvSpPr/>
            <p:nvPr/>
          </p:nvSpPr>
          <p:spPr>
            <a:xfrm>
              <a:off x="8218440" y="283356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702640" y="302256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434440" y="329868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629560" y="282240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42120" y="301932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24920" y="323388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647200" y="320508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423280" y="273672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23400" y="6480"/>
            <a:ext cx="548172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Perio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0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0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3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1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1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1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2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1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10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1" dur="1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1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10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10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0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8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1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500"/>
                            </p:stCondLst>
                            <p:childTnLst>
                              <p:par>
                                <p:cTn id="1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1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4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3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10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6" dur="10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"/>
                            </p:stCondLst>
                            <p:childTnLst>
                              <p:par>
                                <p:cTn id="1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0" dur="10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4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10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10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8" dur="1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2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500"/>
                                        <p:tgtEl>
                                          <p:spTgt spid="2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2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5" name=""/>
          <p:cNvGrpSpPr/>
          <p:nvPr/>
        </p:nvGrpSpPr>
        <p:grpSpPr>
          <a:xfrm>
            <a:off x="743040" y="2635200"/>
            <a:ext cx="8177040" cy="841320"/>
            <a:chOff x="743040" y="2635200"/>
            <a:chExt cx="8177040" cy="841320"/>
          </a:xfrm>
        </p:grpSpPr>
        <p:sp>
          <p:nvSpPr>
            <p:cNvPr id="2126" name=""/>
            <p:cNvSpPr/>
            <p:nvPr/>
          </p:nvSpPr>
          <p:spPr>
            <a:xfrm>
              <a:off x="743040" y="2682720"/>
              <a:ext cx="793800" cy="793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7" name=""/>
            <p:cNvGrpSpPr/>
            <p:nvPr/>
          </p:nvGrpSpPr>
          <p:grpSpPr>
            <a:xfrm>
              <a:off x="1690560" y="2658960"/>
              <a:ext cx="793800" cy="793800"/>
              <a:chOff x="1690560" y="2658960"/>
              <a:chExt cx="793800" cy="793800"/>
            </a:xfrm>
          </p:grpSpPr>
          <p:sp>
            <p:nvSpPr>
              <p:cNvPr id="2128" name=""/>
              <p:cNvSpPr/>
              <p:nvPr/>
            </p:nvSpPr>
            <p:spPr>
              <a:xfrm>
                <a:off x="1690560" y="2658960"/>
                <a:ext cx="793800" cy="79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805040" y="2773440"/>
                <a:ext cx="565200" cy="56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920960" y="28890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1" name=""/>
            <p:cNvGrpSpPr/>
            <p:nvPr/>
          </p:nvGrpSpPr>
          <p:grpSpPr>
            <a:xfrm>
              <a:off x="2919240" y="2658960"/>
              <a:ext cx="793800" cy="793800"/>
              <a:chOff x="2919240" y="2658960"/>
              <a:chExt cx="793800" cy="793800"/>
            </a:xfrm>
          </p:grpSpPr>
          <p:sp>
            <p:nvSpPr>
              <p:cNvPr id="2132" name=""/>
              <p:cNvSpPr/>
              <p:nvPr/>
            </p:nvSpPr>
            <p:spPr>
              <a:xfrm>
                <a:off x="2919240" y="2658960"/>
                <a:ext cx="793800" cy="79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033360" y="2773440"/>
                <a:ext cx="565200" cy="56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149280" y="28890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3948120" y="2658960"/>
              <a:ext cx="793800" cy="793800"/>
              <a:chOff x="3948120" y="2658960"/>
              <a:chExt cx="793800" cy="793800"/>
            </a:xfrm>
          </p:grpSpPr>
          <p:sp>
            <p:nvSpPr>
              <p:cNvPr id="2136" name=""/>
              <p:cNvSpPr/>
              <p:nvPr/>
            </p:nvSpPr>
            <p:spPr>
              <a:xfrm>
                <a:off x="3948120" y="2658960"/>
                <a:ext cx="793800" cy="79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062600" y="2773440"/>
                <a:ext cx="565200" cy="56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178520" y="28890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"/>
            <p:cNvGrpSpPr/>
            <p:nvPr/>
          </p:nvGrpSpPr>
          <p:grpSpPr>
            <a:xfrm>
              <a:off x="4938840" y="2658960"/>
              <a:ext cx="793800" cy="793800"/>
              <a:chOff x="4938840" y="2658960"/>
              <a:chExt cx="793800" cy="793800"/>
            </a:xfrm>
          </p:grpSpPr>
          <p:sp>
            <p:nvSpPr>
              <p:cNvPr id="2140" name=""/>
              <p:cNvSpPr/>
              <p:nvPr/>
            </p:nvSpPr>
            <p:spPr>
              <a:xfrm>
                <a:off x="4938840" y="2658960"/>
                <a:ext cx="793800" cy="79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053320" y="2773440"/>
                <a:ext cx="565200" cy="56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169240" y="28890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6005520" y="2658960"/>
              <a:ext cx="793800" cy="793800"/>
              <a:chOff x="6005520" y="2658960"/>
              <a:chExt cx="793800" cy="793800"/>
            </a:xfrm>
          </p:grpSpPr>
          <p:sp>
            <p:nvSpPr>
              <p:cNvPr id="2144" name=""/>
              <p:cNvSpPr/>
              <p:nvPr/>
            </p:nvSpPr>
            <p:spPr>
              <a:xfrm>
                <a:off x="6005520" y="2658960"/>
                <a:ext cx="793800" cy="793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119640" y="2773440"/>
                <a:ext cx="565200" cy="56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235560" y="28890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7" name=""/>
            <p:cNvSpPr/>
            <p:nvPr/>
          </p:nvSpPr>
          <p:spPr>
            <a:xfrm>
              <a:off x="8126280" y="2635200"/>
              <a:ext cx="793800" cy="793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8" name=""/>
            <p:cNvGrpSpPr/>
            <p:nvPr/>
          </p:nvGrpSpPr>
          <p:grpSpPr>
            <a:xfrm>
              <a:off x="816120" y="2751120"/>
              <a:ext cx="650880" cy="650880"/>
              <a:chOff x="816120" y="2751120"/>
              <a:chExt cx="650880" cy="650880"/>
            </a:xfrm>
          </p:grpSpPr>
          <p:grpSp>
            <p:nvGrpSpPr>
              <p:cNvPr id="2149" name=""/>
              <p:cNvGrpSpPr/>
              <p:nvPr/>
            </p:nvGrpSpPr>
            <p:grpSpPr>
              <a:xfrm>
                <a:off x="858960" y="2793960"/>
                <a:ext cx="563400" cy="563760"/>
                <a:chOff x="858960" y="2793960"/>
                <a:chExt cx="563400" cy="563760"/>
              </a:xfrm>
            </p:grpSpPr>
            <p:sp>
              <p:nvSpPr>
                <p:cNvPr id="2150" name=""/>
                <p:cNvSpPr/>
                <p:nvPr/>
              </p:nvSpPr>
              <p:spPr>
                <a:xfrm>
                  <a:off x="858960" y="2793960"/>
                  <a:ext cx="563400" cy="56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974880" y="2908440"/>
                  <a:ext cx="333360" cy="33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2" name=""/>
              <p:cNvSpPr/>
              <p:nvPr/>
            </p:nvSpPr>
            <p:spPr>
              <a:xfrm>
                <a:off x="1111320" y="320832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092240" y="287496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282680" y="325584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292040" y="283680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387440" y="304632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092240" y="275112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892080" y="283680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816120" y="3036960"/>
                <a:ext cx="79200" cy="79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882720" y="3246480"/>
                <a:ext cx="79200" cy="79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120680" y="3322800"/>
                <a:ext cx="79560" cy="79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2" name=""/>
            <p:cNvGrpSpPr/>
            <p:nvPr/>
          </p:nvGrpSpPr>
          <p:grpSpPr>
            <a:xfrm>
              <a:off x="1806480" y="2779560"/>
              <a:ext cx="563760" cy="563760"/>
              <a:chOff x="1806480" y="2779560"/>
              <a:chExt cx="563760" cy="563760"/>
            </a:xfrm>
          </p:grpSpPr>
          <p:sp>
            <p:nvSpPr>
              <p:cNvPr id="2163" name=""/>
              <p:cNvSpPr/>
              <p:nvPr/>
            </p:nvSpPr>
            <p:spPr>
              <a:xfrm>
                <a:off x="1806480" y="2779560"/>
                <a:ext cx="563760" cy="56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922400" y="289404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5" name=""/>
            <p:cNvSpPr/>
            <p:nvPr/>
          </p:nvSpPr>
          <p:spPr>
            <a:xfrm>
              <a:off x="2058840" y="319392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039760" y="286056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230560" y="324180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239920" y="282240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335320" y="303228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039760" y="273672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839960" y="282240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763640" y="302256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30240" y="323208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068560" y="330840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"/>
            <p:cNvGrpSpPr/>
            <p:nvPr/>
          </p:nvGrpSpPr>
          <p:grpSpPr>
            <a:xfrm>
              <a:off x="3040200" y="2770200"/>
              <a:ext cx="563400" cy="563400"/>
              <a:chOff x="3040200" y="2770200"/>
              <a:chExt cx="563400" cy="563400"/>
            </a:xfrm>
          </p:grpSpPr>
          <p:sp>
            <p:nvSpPr>
              <p:cNvPr id="2176" name=""/>
              <p:cNvSpPr/>
              <p:nvPr/>
            </p:nvSpPr>
            <p:spPr>
              <a:xfrm>
                <a:off x="3040200" y="277020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156120" y="288432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8" name=""/>
            <p:cNvSpPr/>
            <p:nvPr/>
          </p:nvSpPr>
          <p:spPr>
            <a:xfrm>
              <a:off x="3292560" y="318456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273480" y="285120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63920" y="323208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473280" y="28130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568680" y="302256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273480" y="272736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073320" y="28130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997360" y="301320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063960" y="322272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301920" y="329868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4059360" y="2774880"/>
              <a:ext cx="563400" cy="563400"/>
              <a:chOff x="4059360" y="2774880"/>
              <a:chExt cx="563400" cy="563400"/>
            </a:xfrm>
          </p:grpSpPr>
          <p:sp>
            <p:nvSpPr>
              <p:cNvPr id="2189" name=""/>
              <p:cNvSpPr/>
              <p:nvPr/>
            </p:nvSpPr>
            <p:spPr>
              <a:xfrm>
                <a:off x="4059360" y="277488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175280" y="28890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1" name=""/>
            <p:cNvSpPr/>
            <p:nvPr/>
          </p:nvSpPr>
          <p:spPr>
            <a:xfrm>
              <a:off x="4311720" y="318924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292640" y="285588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483080" y="323676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492800" y="281772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587840" y="30272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292640" y="273204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092480" y="281772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016520" y="301788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083120" y="322740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321080" y="330372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302080" y="31748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288040" y="286056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478480" y="325584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483160" y="282240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573880" y="302256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288040" y="275112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087880" y="283680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011560" y="303696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097600" y="321300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297400" y="329400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1" name=""/>
            <p:cNvGrpSpPr/>
            <p:nvPr/>
          </p:nvGrpSpPr>
          <p:grpSpPr>
            <a:xfrm>
              <a:off x="6121440" y="2774880"/>
              <a:ext cx="563400" cy="563400"/>
              <a:chOff x="6121440" y="2774880"/>
              <a:chExt cx="563400" cy="563400"/>
            </a:xfrm>
          </p:grpSpPr>
          <p:sp>
            <p:nvSpPr>
              <p:cNvPr id="2212" name=""/>
              <p:cNvSpPr/>
              <p:nvPr/>
            </p:nvSpPr>
            <p:spPr>
              <a:xfrm>
                <a:off x="6121440" y="2774880"/>
                <a:ext cx="563400" cy="56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237360" y="2889000"/>
                <a:ext cx="333360" cy="33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4" name=""/>
            <p:cNvSpPr/>
            <p:nvPr/>
          </p:nvSpPr>
          <p:spPr>
            <a:xfrm>
              <a:off x="6373800" y="31892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354720" y="285588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545160" y="323676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554880" y="281772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649920" y="30272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354720" y="273204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54560" y="2817720"/>
              <a:ext cx="7956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78600" y="3017880"/>
              <a:ext cx="7920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145200" y="322740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097760" y="2673360"/>
              <a:ext cx="793800" cy="793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4" name=""/>
            <p:cNvGrpSpPr/>
            <p:nvPr/>
          </p:nvGrpSpPr>
          <p:grpSpPr>
            <a:xfrm>
              <a:off x="7169040" y="2741760"/>
              <a:ext cx="650880" cy="650880"/>
              <a:chOff x="7169040" y="2741760"/>
              <a:chExt cx="650880" cy="650880"/>
            </a:xfrm>
          </p:grpSpPr>
          <p:grpSp>
            <p:nvGrpSpPr>
              <p:cNvPr id="2225" name=""/>
              <p:cNvGrpSpPr/>
              <p:nvPr/>
            </p:nvGrpSpPr>
            <p:grpSpPr>
              <a:xfrm>
                <a:off x="7211880" y="2784600"/>
                <a:ext cx="563400" cy="563760"/>
                <a:chOff x="7211880" y="2784600"/>
                <a:chExt cx="563400" cy="56376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7211880" y="2784600"/>
                  <a:ext cx="563400" cy="56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7327800" y="2899080"/>
                  <a:ext cx="333360" cy="33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8" name=""/>
              <p:cNvSpPr/>
              <p:nvPr/>
            </p:nvSpPr>
            <p:spPr>
              <a:xfrm>
                <a:off x="7464240" y="319896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445160" y="2865600"/>
                <a:ext cx="79560" cy="79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635600" y="324648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645320" y="282744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740360" y="303696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445160" y="274176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245360" y="282744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169040" y="3027600"/>
                <a:ext cx="79200" cy="79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235640" y="3237120"/>
                <a:ext cx="79560" cy="79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473960" y="3313440"/>
                <a:ext cx="79200" cy="79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"/>
            <p:cNvGrpSpPr/>
            <p:nvPr/>
          </p:nvGrpSpPr>
          <p:grpSpPr>
            <a:xfrm>
              <a:off x="8197920" y="2717640"/>
              <a:ext cx="650880" cy="650880"/>
              <a:chOff x="8197920" y="2717640"/>
              <a:chExt cx="650880" cy="650880"/>
            </a:xfrm>
          </p:grpSpPr>
          <p:grpSp>
            <p:nvGrpSpPr>
              <p:cNvPr id="2239" name=""/>
              <p:cNvGrpSpPr/>
              <p:nvPr/>
            </p:nvGrpSpPr>
            <p:grpSpPr>
              <a:xfrm>
                <a:off x="8240760" y="2760480"/>
                <a:ext cx="563400" cy="563760"/>
                <a:chOff x="8240760" y="2760480"/>
                <a:chExt cx="563400" cy="563760"/>
              </a:xfrm>
            </p:grpSpPr>
            <p:sp>
              <p:nvSpPr>
                <p:cNvPr id="2240" name=""/>
                <p:cNvSpPr/>
                <p:nvPr/>
              </p:nvSpPr>
              <p:spPr>
                <a:xfrm>
                  <a:off x="8240760" y="2760480"/>
                  <a:ext cx="563400" cy="56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8356680" y="2874960"/>
                  <a:ext cx="333360" cy="33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2" name=""/>
              <p:cNvSpPr/>
              <p:nvPr/>
            </p:nvSpPr>
            <p:spPr>
              <a:xfrm>
                <a:off x="8493120" y="317484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8474040" y="284148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8664480" y="322236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8674200" y="280332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769240" y="301284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474040" y="271764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8273880" y="2803320"/>
                <a:ext cx="7956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8197920" y="3003480"/>
                <a:ext cx="79200" cy="79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8264520" y="3213000"/>
                <a:ext cx="79200" cy="79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502480" y="3289320"/>
                <a:ext cx="79560" cy="79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2" name=""/>
            <p:cNvSpPr/>
            <p:nvPr/>
          </p:nvSpPr>
          <p:spPr>
            <a:xfrm>
              <a:off x="6370560" y="3303720"/>
              <a:ext cx="79560" cy="79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3" name=""/>
          <p:cNvSpPr/>
          <p:nvPr/>
        </p:nvSpPr>
        <p:spPr>
          <a:xfrm>
            <a:off x="611280" y="415620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1644480" y="41562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828880" y="4156200"/>
            <a:ext cx="9349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879720" y="4149720"/>
            <a:ext cx="93528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921200" y="415116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952960" y="41562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991200" y="4152960"/>
            <a:ext cx="93528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8047080" y="41562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262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63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4" name=""/>
          <p:cNvSpPr/>
          <p:nvPr/>
        </p:nvSpPr>
        <p:spPr>
          <a:xfrm>
            <a:off x="631800" y="731880"/>
            <a:ext cx="85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lements in Period 3 hav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complete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rst and second sh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300800" y="205092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210360" y="205092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140440" y="205092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146480" y="204156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111480" y="204156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905120" y="204624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934920" y="204624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8323200" y="205092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77920" y="286560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03440" y="4808520"/>
            <a:ext cx="72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third shell is completed one electron at a time going across Period 3 from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special about the outer shell of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Ar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11280" y="368784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644480" y="368784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2828880" y="369252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79720" y="369252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921200" y="368784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952960" y="368784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991200" y="368784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8047080" y="368784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31800" y="1282680"/>
            <a:ext cx="85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happens to electrons in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third shell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Period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1087560" y="2639880"/>
            <a:ext cx="79200" cy="79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6" name=""/>
          <p:cNvGrpSpPr/>
          <p:nvPr/>
        </p:nvGrpSpPr>
        <p:grpSpPr>
          <a:xfrm>
            <a:off x="2039760" y="2622600"/>
            <a:ext cx="84240" cy="884160"/>
            <a:chOff x="2039760" y="2622600"/>
            <a:chExt cx="84240" cy="884160"/>
          </a:xfrm>
        </p:grpSpPr>
        <p:sp>
          <p:nvSpPr>
            <p:cNvPr id="2287" name=""/>
            <p:cNvSpPr/>
            <p:nvPr/>
          </p:nvSpPr>
          <p:spPr>
            <a:xfrm>
              <a:off x="2039760" y="262260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044800" y="342756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3273480" y="2617920"/>
            <a:ext cx="484200" cy="879480"/>
            <a:chOff x="3273480" y="2617920"/>
            <a:chExt cx="484200" cy="879480"/>
          </a:xfrm>
        </p:grpSpPr>
        <p:sp>
          <p:nvSpPr>
            <p:cNvPr id="2290" name=""/>
            <p:cNvSpPr/>
            <p:nvPr/>
          </p:nvSpPr>
          <p:spPr>
            <a:xfrm>
              <a:off x="3278160" y="261792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678120" y="302724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273480" y="341784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3902040" y="2622600"/>
            <a:ext cx="879480" cy="884160"/>
            <a:chOff x="3902040" y="2622600"/>
            <a:chExt cx="879480" cy="884160"/>
          </a:xfrm>
        </p:grpSpPr>
        <p:sp>
          <p:nvSpPr>
            <p:cNvPr id="2294" name=""/>
            <p:cNvSpPr/>
            <p:nvPr/>
          </p:nvSpPr>
          <p:spPr>
            <a:xfrm>
              <a:off x="4302000" y="262260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702320" y="302724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330800" y="342756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902040" y="301788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4902120" y="2622600"/>
            <a:ext cx="870120" cy="874800"/>
            <a:chOff x="4902120" y="2622600"/>
            <a:chExt cx="870120" cy="874800"/>
          </a:xfrm>
        </p:grpSpPr>
        <p:sp>
          <p:nvSpPr>
            <p:cNvPr id="2299" name=""/>
            <p:cNvSpPr/>
            <p:nvPr/>
          </p:nvSpPr>
          <p:spPr>
            <a:xfrm>
              <a:off x="5302080" y="262260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02120" y="303696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580000" y="274644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02080" y="341784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692680" y="301788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4" name=""/>
          <p:cNvGrpSpPr/>
          <p:nvPr/>
        </p:nvGrpSpPr>
        <p:grpSpPr>
          <a:xfrm>
            <a:off x="5959440" y="2627280"/>
            <a:ext cx="879480" cy="876240"/>
            <a:chOff x="5959440" y="2627280"/>
            <a:chExt cx="879480" cy="876240"/>
          </a:xfrm>
        </p:grpSpPr>
        <p:sp>
          <p:nvSpPr>
            <p:cNvPr id="2305" name=""/>
            <p:cNvSpPr/>
            <p:nvPr/>
          </p:nvSpPr>
          <p:spPr>
            <a:xfrm>
              <a:off x="6626160" y="331308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359400" y="262728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759720" y="304164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381720" y="342432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959440" y="302256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673680" y="275112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7040520" y="2622600"/>
            <a:ext cx="879480" cy="888840"/>
            <a:chOff x="7040520" y="2622600"/>
            <a:chExt cx="879480" cy="888840"/>
          </a:xfrm>
        </p:grpSpPr>
        <p:sp>
          <p:nvSpPr>
            <p:cNvPr id="2312" name=""/>
            <p:cNvSpPr/>
            <p:nvPr/>
          </p:nvSpPr>
          <p:spPr>
            <a:xfrm>
              <a:off x="7840800" y="304632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445520" y="262260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478640" y="343224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040520" y="303696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726320" y="2741760"/>
              <a:ext cx="7956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721640" y="331308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174080" y="333684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8088480" y="2608200"/>
            <a:ext cx="874440" cy="889200"/>
            <a:chOff x="8088480" y="2608200"/>
            <a:chExt cx="874440" cy="889200"/>
          </a:xfrm>
        </p:grpSpPr>
        <p:sp>
          <p:nvSpPr>
            <p:cNvPr id="2320" name=""/>
            <p:cNvSpPr/>
            <p:nvPr/>
          </p:nvSpPr>
          <p:spPr>
            <a:xfrm>
              <a:off x="8507520" y="341784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883720" y="302256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764560" y="3298680"/>
              <a:ext cx="7956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774280" y="2746440"/>
              <a:ext cx="79200" cy="79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8088480" y="302256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8469360" y="260820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193240" y="273672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97920" y="3298680"/>
              <a:ext cx="79200" cy="79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15480" y="6120"/>
            <a:ext cx="5770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Perio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2" dur="indefinite" restart="never" nodeType="tmRoot">
          <p:childTnLst>
            <p:seq>
              <p:cTn id="1913" dur="indefinite" nodeType="mainSeq">
                <p:childTnLst>
                  <p:par>
                    <p:cTn id="1914" fill="hold">
                      <p:stCondLst>
                        <p:cond delay="0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10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1" dur="1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4" dur="10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10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3" dur="10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10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10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7" dur="10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10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10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10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1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10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1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8" dur="10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3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10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10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8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2" dur="10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7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10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500"/>
                            </p:stCondLst>
                            <p:childTnLst>
                              <p:par>
                                <p:cTn id="2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10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4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8" dur="10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3" dur="5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2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1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1" dur="500"/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500"/>
                            </p:stCondLst>
                            <p:childTnLst>
                              <p:par>
                                <p:cTn id="2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2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9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tterns of electron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826920" y="3967200"/>
            <a:ext cx="900360" cy="541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8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1727280" y="3967200"/>
            <a:ext cx="900000" cy="541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8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26920" y="3425760"/>
            <a:ext cx="900360" cy="5414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1727280" y="3425760"/>
            <a:ext cx="900000" cy="5414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826920" y="2198520"/>
            <a:ext cx="9003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826920" y="2882880"/>
            <a:ext cx="900360" cy="54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727280" y="2882880"/>
            <a:ext cx="900000" cy="54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7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338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0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31800" y="741240"/>
            <a:ext cx="82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onsider the electron arrangements of the first 20 elements in the periodic 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478640" y="169560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541920" y="169560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605560" y="169560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716360" y="16858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851280" y="16858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951200" y="1690560"/>
            <a:ext cx="40608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141560" y="1690560"/>
            <a:ext cx="40608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8369280" y="169560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24000" y="234144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565440" y="2881440"/>
            <a:ext cx="900360" cy="54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467240" y="2881440"/>
            <a:ext cx="900000" cy="54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370480" y="2881440"/>
            <a:ext cx="900000" cy="54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269040" y="2881440"/>
            <a:ext cx="900000" cy="54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7170840" y="2884320"/>
            <a:ext cx="900000" cy="54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8064360" y="2884320"/>
            <a:ext cx="900360" cy="54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562200" y="3424320"/>
            <a:ext cx="90036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464000" y="3424320"/>
            <a:ext cx="90000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367240" y="3424320"/>
            <a:ext cx="90036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265800" y="3424320"/>
            <a:ext cx="90000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7167600" y="3427560"/>
            <a:ext cx="90000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8061480" y="3427560"/>
            <a:ext cx="90000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,8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8064360" y="2347920"/>
            <a:ext cx="9003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30120" y="2955960"/>
            <a:ext cx="40644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24000" y="352260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24000" y="403704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03440" y="4713120"/>
            <a:ext cx="82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pattern for the number of outer shell electrons in each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03440" y="555948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y do elements in the same group have similar chemical reac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6" dur="indefinite" restart="never" nodeType="tmRoot">
          <p:childTnLst>
            <p:seq>
              <p:cTn id="2067" dur="indefinite" nodeType="mainSeq">
                <p:childTnLst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9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5" dur="1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8" dur="10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1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4" dur="10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7" dur="10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0" dur="1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4" dur="1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8" dur="10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2" dur="10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6" dur="10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0" dur="20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4" dur="20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8" dur="2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20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20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4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8" dur="20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2" dur="20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0" dur="20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4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29500"/>
                            </p:stCondLst>
                            <p:childTnLst>
                              <p:par>
                                <p:cTn id="2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8" dur="2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31500"/>
                            </p:stCondLst>
                            <p:childTnLst>
                              <p:par>
                                <p:cTn id="2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2" dur="20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6" dur="2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35500"/>
                            </p:stCondLst>
                            <p:childTnLst>
                              <p:par>
                                <p:cTn id="2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0" dur="2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37500"/>
                            </p:stCondLst>
                            <p:childTnLst>
                              <p:par>
                                <p:cTn id="2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4" dur="20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9500"/>
                            </p:stCondLst>
                            <p:childTnLst>
                              <p:par>
                                <p:cTn id="2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8" dur="2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41500"/>
                            </p:stCondLst>
                            <p:childTnLst>
                              <p:par>
                                <p:cTn id="2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2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2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2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1" dur="500"/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6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9" name=""/>
          <p:cNvGrpSpPr/>
          <p:nvPr/>
        </p:nvGrpSpPr>
        <p:grpSpPr>
          <a:xfrm>
            <a:off x="1514520" y="1844640"/>
            <a:ext cx="909720" cy="979560"/>
            <a:chOff x="1514520" y="1844640"/>
            <a:chExt cx="909720" cy="979560"/>
          </a:xfrm>
        </p:grpSpPr>
        <p:grpSp>
          <p:nvGrpSpPr>
            <p:cNvPr id="2370" name=""/>
            <p:cNvGrpSpPr/>
            <p:nvPr/>
          </p:nvGrpSpPr>
          <p:grpSpPr>
            <a:xfrm>
              <a:off x="1514520" y="1916280"/>
              <a:ext cx="909720" cy="907920"/>
              <a:chOff x="1514520" y="1916280"/>
              <a:chExt cx="909720" cy="907920"/>
            </a:xfrm>
          </p:grpSpPr>
          <p:sp>
            <p:nvSpPr>
              <p:cNvPr id="2371" name=""/>
              <p:cNvSpPr/>
              <p:nvPr/>
            </p:nvSpPr>
            <p:spPr>
              <a:xfrm>
                <a:off x="1514520" y="1916280"/>
                <a:ext cx="909720" cy="90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700280" y="2098440"/>
                <a:ext cx="539640" cy="541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3" name=""/>
            <p:cNvSpPr/>
            <p:nvPr/>
          </p:nvSpPr>
          <p:spPr>
            <a:xfrm>
              <a:off x="1897200" y="2036880"/>
              <a:ext cx="134640" cy="135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928880" y="2570040"/>
              <a:ext cx="133200" cy="135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908000" y="1844640"/>
              <a:ext cx="133560" cy="135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6" name=""/>
          <p:cNvSpPr/>
          <p:nvPr/>
        </p:nvSpPr>
        <p:spPr>
          <a:xfrm>
            <a:off x="4498920" y="2200320"/>
            <a:ext cx="42498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y does reactivity increase going down the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oing down Group 1 the outer electron becomes further from the nucl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nd so is more easily l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 chemical reactions.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oup 1 metals are called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alkali 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7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378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9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0" name=""/>
          <p:cNvSpPr/>
          <p:nvPr/>
        </p:nvSpPr>
        <p:spPr>
          <a:xfrm>
            <a:off x="1720800" y="7700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84360" y="2171880"/>
            <a:ext cx="40608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84360" y="393696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990880" y="2568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990880" y="2136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95560" y="4330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995560" y="3898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191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8" name=""/>
          <p:cNvGrpSpPr/>
          <p:nvPr/>
        </p:nvGrpSpPr>
        <p:grpSpPr>
          <a:xfrm>
            <a:off x="1316160" y="3429000"/>
            <a:ext cx="1277640" cy="1336680"/>
            <a:chOff x="1316160" y="3429000"/>
            <a:chExt cx="1277640" cy="1336680"/>
          </a:xfrm>
        </p:grpSpPr>
        <p:grpSp>
          <p:nvGrpSpPr>
            <p:cNvPr id="2389" name=""/>
            <p:cNvGrpSpPr/>
            <p:nvPr/>
          </p:nvGrpSpPr>
          <p:grpSpPr>
            <a:xfrm>
              <a:off x="1316160" y="3487680"/>
              <a:ext cx="1277640" cy="1278000"/>
              <a:chOff x="1316160" y="3487680"/>
              <a:chExt cx="1277640" cy="1278000"/>
            </a:xfrm>
          </p:grpSpPr>
          <p:sp>
            <p:nvSpPr>
              <p:cNvPr id="2390" name=""/>
              <p:cNvSpPr/>
              <p:nvPr/>
            </p:nvSpPr>
            <p:spPr>
              <a:xfrm>
                <a:off x="1316160" y="3487680"/>
                <a:ext cx="1277640" cy="127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499760" y="3670200"/>
                <a:ext cx="911160" cy="9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685520" y="3855960"/>
                <a:ext cx="539640" cy="54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3" name=""/>
            <p:cNvSpPr/>
            <p:nvPr/>
          </p:nvSpPr>
          <p:spPr>
            <a:xfrm>
              <a:off x="1906560" y="3803760"/>
              <a:ext cx="133200" cy="13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1906560" y="4321080"/>
              <a:ext cx="135000" cy="135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908000" y="3429000"/>
              <a:ext cx="135000" cy="135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227320" y="4367160"/>
              <a:ext cx="13788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212920" y="3755880"/>
              <a:ext cx="13968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341440" y="408132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886040" y="3616200"/>
              <a:ext cx="13788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557360" y="375588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433520" y="406548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569960" y="4398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913040" y="4514760"/>
              <a:ext cx="13788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4498920" y="731880"/>
            <a:ext cx="424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roup 1 elements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one electro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outermost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20160" y="1080"/>
            <a:ext cx="55832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7" dur="indefinite" restart="never" nodeType="tmRoot">
          <p:childTnLst>
            <p:seq>
              <p:cTn id="2208" dur="indefinite" nodeType="mainSeq">
                <p:childTnLst>
                  <p:par>
                    <p:cTn id="2209" fill="hold">
                      <p:stCondLst>
                        <p:cond delay="0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10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10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0" dur="10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4" dur="10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7" dur="10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2" dur="5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5" dur="500"/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8" dur="500"/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5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0" dur="10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9" dur="500"/>
                                        <p:tgtEl>
                                          <p:spTgt spid="2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2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7" dur="500"/>
                                        <p:tgtEl>
                                          <p:spTgt spid="2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2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2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"/>
          <p:cNvGrpSpPr/>
          <p:nvPr/>
        </p:nvGrpSpPr>
        <p:grpSpPr>
          <a:xfrm>
            <a:off x="1500120" y="1844640"/>
            <a:ext cx="933480" cy="1074600"/>
            <a:chOff x="1500120" y="1844640"/>
            <a:chExt cx="933480" cy="1074600"/>
          </a:xfrm>
        </p:grpSpPr>
        <p:grpSp>
          <p:nvGrpSpPr>
            <p:cNvPr id="2407" name=""/>
            <p:cNvGrpSpPr/>
            <p:nvPr/>
          </p:nvGrpSpPr>
          <p:grpSpPr>
            <a:xfrm>
              <a:off x="1500120" y="1911240"/>
              <a:ext cx="933480" cy="932040"/>
              <a:chOff x="1500120" y="1911240"/>
              <a:chExt cx="933480" cy="932040"/>
            </a:xfrm>
          </p:grpSpPr>
          <p:sp>
            <p:nvSpPr>
              <p:cNvPr id="2408" name=""/>
              <p:cNvSpPr/>
              <p:nvPr/>
            </p:nvSpPr>
            <p:spPr>
              <a:xfrm>
                <a:off x="1500120" y="1911240"/>
                <a:ext cx="933480" cy="932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690560" y="2098800"/>
                <a:ext cx="555480" cy="55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0" name=""/>
            <p:cNvSpPr/>
            <p:nvPr/>
          </p:nvSpPr>
          <p:spPr>
            <a:xfrm>
              <a:off x="1932120" y="2589120"/>
              <a:ext cx="13788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900080" y="204300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908000" y="2781360"/>
              <a:ext cx="138240" cy="13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908000" y="1844640"/>
              <a:ext cx="138240" cy="138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4" name=""/>
          <p:cNvGrpSpPr/>
          <p:nvPr/>
        </p:nvGrpSpPr>
        <p:grpSpPr>
          <a:xfrm>
            <a:off x="1312920" y="3429000"/>
            <a:ext cx="1309680" cy="1452600"/>
            <a:chOff x="1312920" y="3429000"/>
            <a:chExt cx="1309680" cy="1452600"/>
          </a:xfrm>
        </p:grpSpPr>
        <p:grpSp>
          <p:nvGrpSpPr>
            <p:cNvPr id="2415" name=""/>
            <p:cNvGrpSpPr/>
            <p:nvPr/>
          </p:nvGrpSpPr>
          <p:grpSpPr>
            <a:xfrm>
              <a:off x="1312920" y="3487680"/>
              <a:ext cx="1309680" cy="1309680"/>
              <a:chOff x="1312920" y="3487680"/>
              <a:chExt cx="1309680" cy="1309680"/>
            </a:xfrm>
          </p:grpSpPr>
          <p:sp>
            <p:nvSpPr>
              <p:cNvPr id="2416" name=""/>
              <p:cNvSpPr/>
              <p:nvPr/>
            </p:nvSpPr>
            <p:spPr>
              <a:xfrm>
                <a:off x="1312920" y="3487680"/>
                <a:ext cx="1309680" cy="130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500120" y="3675240"/>
                <a:ext cx="934920" cy="93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690560" y="3865680"/>
                <a:ext cx="554040" cy="55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9" name=""/>
            <p:cNvSpPr/>
            <p:nvPr/>
          </p:nvSpPr>
          <p:spPr>
            <a:xfrm>
              <a:off x="1917720" y="4365720"/>
              <a:ext cx="138240" cy="13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886040" y="3819600"/>
              <a:ext cx="137880" cy="13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236680" y="438624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212920" y="3755880"/>
              <a:ext cx="13968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370240" y="4100400"/>
              <a:ext cx="13788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886040" y="3616200"/>
              <a:ext cx="13788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557360" y="375588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433520" y="40845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541520" y="44276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932120" y="4552920"/>
              <a:ext cx="137880" cy="13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886040" y="3429000"/>
              <a:ext cx="137880" cy="138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936800" y="4743360"/>
              <a:ext cx="138240" cy="138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1" name=""/>
          <p:cNvSpPr/>
          <p:nvPr/>
        </p:nvSpPr>
        <p:spPr>
          <a:xfrm>
            <a:off x="4475160" y="7365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roup 2 elements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two electr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outermost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433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4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5" name=""/>
          <p:cNvSpPr/>
          <p:nvPr/>
        </p:nvSpPr>
        <p:spPr>
          <a:xfrm>
            <a:off x="4191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2990880" y="2568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990880" y="2136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2995560" y="4330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995560" y="3898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720800" y="7700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84360" y="2171880"/>
            <a:ext cx="40608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84360" y="393696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479840" y="2195640"/>
            <a:ext cx="43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 chemical reactions metals tend to lose their outer electrons to form positive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charge on the ions of Group 2 el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se elements lose the two outer electrons and form ions with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2+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17640" y="1080"/>
            <a:ext cx="6130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0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9" dur="10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3" dur="10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6" dur="10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4" dur="5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500"/>
                            </p:stCondLst>
                            <p:childTnLst>
                              <p:par>
                                <p:cTn id="2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8" dur="10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2" dur="10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6" dur="1000"/>
                                        <p:tgtEl>
                                          <p:spTgt spid="2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0" dur="1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5" dur="500"/>
                                        <p:tgtEl>
                                          <p:spTgt spid="2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0" dur="500"/>
                                        <p:tgtEl>
                                          <p:spTgt spid="2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2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35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roperties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297240" cy="215892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31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7398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a property of an el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316160"/>
            <a:ext cx="669600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roperty is any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racteris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an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6880" y="1989000"/>
            <a:ext cx="795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here are some properties of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odium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869000"/>
            <a:ext cx="777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t would be really useful to be able to predict properties of elements instead of having to remember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3240" y="2705040"/>
            <a:ext cx="390384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90440" indent="28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etal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8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ighly 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8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olid but melt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8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eels light (low dens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58053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re there any patterns in the properties of el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5" name=""/>
          <p:cNvGrpSpPr/>
          <p:nvPr/>
        </p:nvGrpSpPr>
        <p:grpSpPr>
          <a:xfrm>
            <a:off x="1494000" y="1860480"/>
            <a:ext cx="920520" cy="1006560"/>
            <a:chOff x="1494000" y="1860480"/>
            <a:chExt cx="920520" cy="1006560"/>
          </a:xfrm>
        </p:grpSpPr>
        <p:grpSp>
          <p:nvGrpSpPr>
            <p:cNvPr id="2446" name=""/>
            <p:cNvGrpSpPr/>
            <p:nvPr/>
          </p:nvGrpSpPr>
          <p:grpSpPr>
            <a:xfrm>
              <a:off x="1494000" y="1944720"/>
              <a:ext cx="852480" cy="850680"/>
              <a:chOff x="1494000" y="1944720"/>
              <a:chExt cx="852480" cy="850680"/>
            </a:xfrm>
          </p:grpSpPr>
          <p:sp>
            <p:nvSpPr>
              <p:cNvPr id="2447" name=""/>
              <p:cNvSpPr/>
              <p:nvPr/>
            </p:nvSpPr>
            <p:spPr>
              <a:xfrm>
                <a:off x="1494000" y="1944720"/>
                <a:ext cx="852480" cy="85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668600" y="2116080"/>
                <a:ext cx="506520" cy="506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9" name=""/>
            <p:cNvSpPr/>
            <p:nvPr/>
          </p:nvSpPr>
          <p:spPr>
            <a:xfrm>
              <a:off x="1832040" y="206532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860480" y="253692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854360" y="274176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855800" y="186048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289240" y="229392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1297080" y="3471840"/>
            <a:ext cx="1263600" cy="1325520"/>
            <a:chOff x="1297080" y="3471840"/>
            <a:chExt cx="1263600" cy="1325520"/>
          </a:xfrm>
        </p:grpSpPr>
        <p:grpSp>
          <p:nvGrpSpPr>
            <p:cNvPr id="2455" name=""/>
            <p:cNvGrpSpPr/>
            <p:nvPr/>
          </p:nvGrpSpPr>
          <p:grpSpPr>
            <a:xfrm>
              <a:off x="1297080" y="3533760"/>
              <a:ext cx="1197000" cy="1197000"/>
              <a:chOff x="1297080" y="3533760"/>
              <a:chExt cx="1197000" cy="1197000"/>
            </a:xfrm>
          </p:grpSpPr>
          <p:sp>
            <p:nvSpPr>
              <p:cNvPr id="2456" name=""/>
              <p:cNvSpPr/>
              <p:nvPr/>
            </p:nvSpPr>
            <p:spPr>
              <a:xfrm>
                <a:off x="1297080" y="3533760"/>
                <a:ext cx="1197000" cy="119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468800" y="3705480"/>
                <a:ext cx="853920" cy="853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641600" y="3878280"/>
                <a:ext cx="506520" cy="506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"/>
            <p:cNvGrpSpPr/>
            <p:nvPr/>
          </p:nvGrpSpPr>
          <p:grpSpPr>
            <a:xfrm>
              <a:off x="1477800" y="3700440"/>
              <a:ext cx="851040" cy="851040"/>
              <a:chOff x="1477800" y="3700440"/>
              <a:chExt cx="851040" cy="851040"/>
            </a:xfrm>
          </p:grpSpPr>
          <p:sp>
            <p:nvSpPr>
              <p:cNvPr id="2460" name=""/>
              <p:cNvSpPr/>
              <p:nvPr/>
            </p:nvSpPr>
            <p:spPr>
              <a:xfrm>
                <a:off x="1477800" y="3700440"/>
                <a:ext cx="851040" cy="85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650960" y="3872160"/>
                <a:ext cx="506520" cy="506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"/>
            <p:cNvSpPr/>
            <p:nvPr/>
          </p:nvSpPr>
          <p:spPr>
            <a:xfrm>
              <a:off x="1855800" y="432108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827360" y="382104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112840" y="439272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127240" y="376380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270160" y="407844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827360" y="363528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527120" y="3763800"/>
              <a:ext cx="12564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413000" y="406404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512720" y="437832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870200" y="449280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835280" y="347184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435400" y="408636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827360" y="467208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476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7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8" name=""/>
          <p:cNvSpPr/>
          <p:nvPr/>
        </p:nvSpPr>
        <p:spPr>
          <a:xfrm>
            <a:off x="4484520" y="73980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roup 3 elements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three electr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outermost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720800" y="7700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684360" y="2171880"/>
            <a:ext cx="40608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684360" y="393696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990880" y="2568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990880" y="2136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995560" y="4330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995560" y="3898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191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4491000" y="219564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etals lose their outer electrons to form positive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charge on the ions of Group 3 el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se elements lose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three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uter electrons and form ions with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3+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5840" y="-3600"/>
            <a:ext cx="6130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0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10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9" dur="10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3" dur="1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6" dur="1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1" dur="5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2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2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500"/>
                            </p:stCondLst>
                            <p:childTnLst>
                              <p:par>
                                <p:cTn id="2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1" dur="10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5" dur="10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9" dur="10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3" dur="1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2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2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2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9" name=""/>
          <p:cNvGrpSpPr/>
          <p:nvPr/>
        </p:nvGrpSpPr>
        <p:grpSpPr>
          <a:xfrm>
            <a:off x="1332000" y="3500280"/>
            <a:ext cx="1325520" cy="1333800"/>
            <a:chOff x="1332000" y="3500280"/>
            <a:chExt cx="1325520" cy="1333800"/>
          </a:xfrm>
        </p:grpSpPr>
        <p:grpSp>
          <p:nvGrpSpPr>
            <p:cNvPr id="2490" name=""/>
            <p:cNvGrpSpPr/>
            <p:nvPr/>
          </p:nvGrpSpPr>
          <p:grpSpPr>
            <a:xfrm>
              <a:off x="1401840" y="3556080"/>
              <a:ext cx="1197000" cy="1197000"/>
              <a:chOff x="1401840" y="3556080"/>
              <a:chExt cx="1197000" cy="1197000"/>
            </a:xfrm>
          </p:grpSpPr>
          <p:sp>
            <p:nvSpPr>
              <p:cNvPr id="2491" name=""/>
              <p:cNvSpPr/>
              <p:nvPr/>
            </p:nvSpPr>
            <p:spPr>
              <a:xfrm>
                <a:off x="1401840" y="3556080"/>
                <a:ext cx="1197000" cy="119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573200" y="3727440"/>
                <a:ext cx="854280" cy="854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746360" y="3900600"/>
                <a:ext cx="506520" cy="506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1568520" y="3728880"/>
              <a:ext cx="850680" cy="852480"/>
              <a:chOff x="1568520" y="3728880"/>
              <a:chExt cx="850680" cy="852480"/>
            </a:xfrm>
          </p:grpSpPr>
          <p:sp>
            <p:nvSpPr>
              <p:cNvPr id="2495" name=""/>
              <p:cNvSpPr/>
              <p:nvPr/>
            </p:nvSpPr>
            <p:spPr>
              <a:xfrm>
                <a:off x="1568520" y="3728880"/>
                <a:ext cx="850680" cy="852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741320" y="3900240"/>
                <a:ext cx="505800" cy="506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7" name=""/>
            <p:cNvSpPr/>
            <p:nvPr/>
          </p:nvSpPr>
          <p:spPr>
            <a:xfrm>
              <a:off x="1946160" y="4332240"/>
              <a:ext cx="12564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917720" y="385128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203560" y="442260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217600" y="3794040"/>
              <a:ext cx="12564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360520" y="4108320"/>
              <a:ext cx="12564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917720" y="366552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617840" y="379404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503360" y="409428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603440" y="440856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960560" y="452268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932120" y="350028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532240" y="410832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974960" y="470844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332000" y="409428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512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3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4" name=""/>
          <p:cNvSpPr/>
          <p:nvPr/>
        </p:nvSpPr>
        <p:spPr>
          <a:xfrm>
            <a:off x="4475160" y="73656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roup 4 elements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four electr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outermost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720800" y="7700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84360" y="2171880"/>
            <a:ext cx="40608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84360" y="393696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990880" y="2568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990880" y="2136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995560" y="4330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2995560" y="3898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191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1432080" y="1924200"/>
            <a:ext cx="968400" cy="954000"/>
            <a:chOff x="1432080" y="1924200"/>
            <a:chExt cx="968400" cy="954000"/>
          </a:xfrm>
        </p:grpSpPr>
        <p:grpSp>
          <p:nvGrpSpPr>
            <p:cNvPr id="2524" name=""/>
            <p:cNvGrpSpPr/>
            <p:nvPr/>
          </p:nvGrpSpPr>
          <p:grpSpPr>
            <a:xfrm>
              <a:off x="1508040" y="1974960"/>
              <a:ext cx="852480" cy="850680"/>
              <a:chOff x="1508040" y="1974960"/>
              <a:chExt cx="852480" cy="850680"/>
            </a:xfrm>
          </p:grpSpPr>
          <p:sp>
            <p:nvSpPr>
              <p:cNvPr id="2525" name=""/>
              <p:cNvSpPr/>
              <p:nvPr/>
            </p:nvSpPr>
            <p:spPr>
              <a:xfrm>
                <a:off x="1508040" y="1974960"/>
                <a:ext cx="852480" cy="85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683000" y="2146320"/>
                <a:ext cx="506160" cy="506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7" name=""/>
            <p:cNvSpPr/>
            <p:nvPr/>
          </p:nvSpPr>
          <p:spPr>
            <a:xfrm>
              <a:off x="1889280" y="275256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860480" y="192420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274840" y="232416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32080" y="232416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860480" y="210348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879560" y="257508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3" name=""/>
          <p:cNvSpPr/>
          <p:nvPr/>
        </p:nvSpPr>
        <p:spPr>
          <a:xfrm>
            <a:off x="4479840" y="2019240"/>
            <a:ext cx="4465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lements at the top of Group 4 are non-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se elements don’t like to lose their electrons and prefer to share them with other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type of bonding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lements at the top of Group 4 bond c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ovalentl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15480" y="1440"/>
            <a:ext cx="520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Grou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9" dur="indefinite" restart="never" nodeType="tmRoot">
          <p:childTnLst>
            <p:seq>
              <p:cTn id="2400" dur="indefinite" nodeType="mainSeq">
                <p:childTnLst>
                  <p:par>
                    <p:cTn id="2401" fill="hold">
                      <p:stCondLst>
                        <p:cond delay="0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5" dur="10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9" dur="10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2" dur="10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6" dur="10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9" dur="10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"/>
                            </p:stCondLst>
                            <p:childTnLst>
                              <p:par>
                                <p:cTn id="2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1" dur="10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5" dur="10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9" dur="10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3" dur="10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8" dur="500"/>
                                        <p:tgtEl>
                                          <p:spTgt spid="2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500"/>
                            </p:stCondLst>
                            <p:childTnLst>
                              <p:par>
                                <p:cTn id="245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2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6" dur="500"/>
                                        <p:tgtEl>
                                          <p:spTgt spid="2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1" dur="500"/>
                                        <p:tgtEl>
                                          <p:spTgt spid="2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5" name=""/>
          <p:cNvGrpSpPr/>
          <p:nvPr/>
        </p:nvGrpSpPr>
        <p:grpSpPr>
          <a:xfrm>
            <a:off x="1430280" y="1881360"/>
            <a:ext cx="996840" cy="996840"/>
            <a:chOff x="1430280" y="1881360"/>
            <a:chExt cx="996840" cy="996840"/>
          </a:xfrm>
        </p:grpSpPr>
        <p:grpSp>
          <p:nvGrpSpPr>
            <p:cNvPr id="2536" name=""/>
            <p:cNvGrpSpPr/>
            <p:nvPr/>
          </p:nvGrpSpPr>
          <p:grpSpPr>
            <a:xfrm>
              <a:off x="1506600" y="1960560"/>
              <a:ext cx="850680" cy="850680"/>
              <a:chOff x="1506600" y="1960560"/>
              <a:chExt cx="850680" cy="850680"/>
            </a:xfrm>
          </p:grpSpPr>
          <p:sp>
            <p:nvSpPr>
              <p:cNvPr id="2537" name=""/>
              <p:cNvSpPr/>
              <p:nvPr/>
            </p:nvSpPr>
            <p:spPr>
              <a:xfrm>
                <a:off x="1506600" y="1960560"/>
                <a:ext cx="850680" cy="85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679400" y="2131920"/>
                <a:ext cx="506160" cy="506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>
              <a:off x="1873080" y="256716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844640" y="208116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873080" y="188136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301840" y="230976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173320" y="200988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30280" y="2295360"/>
              <a:ext cx="12564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887480" y="2752560"/>
              <a:ext cx="12564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1258920" y="3500280"/>
            <a:ext cx="1333440" cy="1333800"/>
            <a:chOff x="1258920" y="3500280"/>
            <a:chExt cx="1333440" cy="1333800"/>
          </a:xfrm>
        </p:grpSpPr>
        <p:grpSp>
          <p:nvGrpSpPr>
            <p:cNvPr id="2547" name=""/>
            <p:cNvGrpSpPr/>
            <p:nvPr/>
          </p:nvGrpSpPr>
          <p:grpSpPr>
            <a:xfrm>
              <a:off x="1335240" y="3556080"/>
              <a:ext cx="1197000" cy="1197000"/>
              <a:chOff x="1335240" y="3556080"/>
              <a:chExt cx="1197000" cy="1197000"/>
            </a:xfrm>
          </p:grpSpPr>
          <p:sp>
            <p:nvSpPr>
              <p:cNvPr id="2548" name=""/>
              <p:cNvSpPr/>
              <p:nvPr/>
            </p:nvSpPr>
            <p:spPr>
              <a:xfrm>
                <a:off x="1335240" y="3556080"/>
                <a:ext cx="1197000" cy="119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506960" y="3727800"/>
                <a:ext cx="853920" cy="853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681560" y="3900600"/>
                <a:ext cx="506520" cy="506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1" name=""/>
            <p:cNvSpPr/>
            <p:nvPr/>
          </p:nvSpPr>
          <p:spPr>
            <a:xfrm>
              <a:off x="1887480" y="4379760"/>
              <a:ext cx="12564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859040" y="387972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144880" y="445140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158920" y="382284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301840" y="413712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859040" y="369396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558800" y="382284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444680" y="412272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544760" y="443700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901880" y="455148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881360" y="350028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258920" y="411480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316240" y="368784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901880" y="470844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467080" y="409428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567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8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9" name=""/>
          <p:cNvSpPr/>
          <p:nvPr/>
        </p:nvSpPr>
        <p:spPr>
          <a:xfrm>
            <a:off x="4484520" y="7272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roup 5 elements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five electr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utermost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720800" y="7700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84360" y="2171880"/>
            <a:ext cx="40608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84360" y="393696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990880" y="2568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990880" y="2136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995560" y="4330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2995560" y="3898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91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484520" y="2192400"/>
            <a:ext cx="446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ow many electrons do the elements shown need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full outer sh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oup 5 elements shown need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three more electr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o achieve a full outer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15840" y="-1800"/>
            <a:ext cx="5554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Group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0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8" dur="1000"/>
                                        <p:tgtEl>
                                          <p:spTgt spid="2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2" dur="1000"/>
                                        <p:tgtEl>
                                          <p:spTgt spid="2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5" dur="10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9" dur="10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7" dur="5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500"/>
                            </p:stCondLst>
                            <p:childTnLst>
                              <p:par>
                                <p:cTn id="2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10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8" dur="10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2" dur="1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6" dur="10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1" dur="500"/>
                                        <p:tgtEl>
                                          <p:spTgt spid="2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2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2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2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0" name=""/>
          <p:cNvGrpSpPr/>
          <p:nvPr/>
        </p:nvGrpSpPr>
        <p:grpSpPr>
          <a:xfrm>
            <a:off x="1260360" y="3500280"/>
            <a:ext cx="1325520" cy="1325880"/>
            <a:chOff x="1260360" y="3500280"/>
            <a:chExt cx="1325520" cy="1325880"/>
          </a:xfrm>
        </p:grpSpPr>
        <p:grpSp>
          <p:nvGrpSpPr>
            <p:cNvPr id="2581" name=""/>
            <p:cNvGrpSpPr/>
            <p:nvPr/>
          </p:nvGrpSpPr>
          <p:grpSpPr>
            <a:xfrm>
              <a:off x="1330200" y="3548160"/>
              <a:ext cx="1197000" cy="1197000"/>
              <a:chOff x="1330200" y="3548160"/>
              <a:chExt cx="1197000" cy="1197000"/>
            </a:xfrm>
          </p:grpSpPr>
          <p:sp>
            <p:nvSpPr>
              <p:cNvPr id="2582" name=""/>
              <p:cNvSpPr/>
              <p:nvPr/>
            </p:nvSpPr>
            <p:spPr>
              <a:xfrm>
                <a:off x="1330200" y="3548160"/>
                <a:ext cx="1197000" cy="119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501560" y="3719520"/>
                <a:ext cx="853920" cy="854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674720" y="3892680"/>
                <a:ext cx="506160" cy="506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5" name=""/>
            <p:cNvGrpSpPr/>
            <p:nvPr/>
          </p:nvGrpSpPr>
          <p:grpSpPr>
            <a:xfrm>
              <a:off x="1503360" y="3720960"/>
              <a:ext cx="852480" cy="852480"/>
              <a:chOff x="1503360" y="3720960"/>
              <a:chExt cx="852480" cy="852480"/>
            </a:xfrm>
          </p:grpSpPr>
          <p:sp>
            <p:nvSpPr>
              <p:cNvPr id="2586" name=""/>
              <p:cNvSpPr/>
              <p:nvPr/>
            </p:nvSpPr>
            <p:spPr>
              <a:xfrm>
                <a:off x="1503360" y="3720960"/>
                <a:ext cx="852480" cy="852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677960" y="3892320"/>
                <a:ext cx="506520" cy="506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8" name=""/>
            <p:cNvSpPr/>
            <p:nvPr/>
          </p:nvSpPr>
          <p:spPr>
            <a:xfrm>
              <a:off x="1882800" y="434340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854360" y="384336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39840" y="4414680"/>
              <a:ext cx="12564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54240" y="378612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297160" y="410040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854360" y="365760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554120" y="378612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440000" y="408636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539720" y="440064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260440" y="452916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860480" y="3500280"/>
              <a:ext cx="12564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460600" y="412128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903320" y="4700520"/>
              <a:ext cx="12564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260360" y="4092480"/>
              <a:ext cx="12564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332080" y="368604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825560" y="452124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605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6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7" name=""/>
          <p:cNvSpPr/>
          <p:nvPr/>
        </p:nvSpPr>
        <p:spPr>
          <a:xfrm>
            <a:off x="4475160" y="227664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toms form negative ions by gaining extra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type of ions will these Group 6 elements fo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se Group 6 atoms can gain two extra electrons to complete their outer shell and form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negative i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with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2- charg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1720800" y="7700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84360" y="2171880"/>
            <a:ext cx="40608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684360" y="393696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2990880" y="2568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990880" y="2136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995560" y="4330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995560" y="3898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5" name=""/>
          <p:cNvGrpSpPr/>
          <p:nvPr/>
        </p:nvGrpSpPr>
        <p:grpSpPr>
          <a:xfrm>
            <a:off x="1436760" y="1844640"/>
            <a:ext cx="982440" cy="982800"/>
            <a:chOff x="1436760" y="1844640"/>
            <a:chExt cx="982440" cy="982800"/>
          </a:xfrm>
        </p:grpSpPr>
        <p:grpSp>
          <p:nvGrpSpPr>
            <p:cNvPr id="2616" name=""/>
            <p:cNvGrpSpPr/>
            <p:nvPr/>
          </p:nvGrpSpPr>
          <p:grpSpPr>
            <a:xfrm>
              <a:off x="1498680" y="1909800"/>
              <a:ext cx="852480" cy="851040"/>
              <a:chOff x="1498680" y="1909800"/>
              <a:chExt cx="852480" cy="851040"/>
            </a:xfrm>
          </p:grpSpPr>
          <p:sp>
            <p:nvSpPr>
              <p:cNvPr id="2617" name=""/>
              <p:cNvSpPr/>
              <p:nvPr/>
            </p:nvSpPr>
            <p:spPr>
              <a:xfrm>
                <a:off x="1498680" y="1909800"/>
                <a:ext cx="852480" cy="85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673280" y="2081520"/>
                <a:ext cx="506520" cy="506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9" name=""/>
            <p:cNvSpPr/>
            <p:nvPr/>
          </p:nvSpPr>
          <p:spPr>
            <a:xfrm>
              <a:off x="1879560" y="203040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836720" y="184464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79560" y="2516040"/>
              <a:ext cx="12528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436760" y="230184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293920" y="228744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879560" y="270180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51000" y="195912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65400" y="254484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7" name=""/>
          <p:cNvSpPr/>
          <p:nvPr/>
        </p:nvSpPr>
        <p:spPr>
          <a:xfrm>
            <a:off x="4191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4489560" y="746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roup 6 elements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ix electr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utermost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5840" y="7560"/>
            <a:ext cx="59961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Group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0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9" dur="10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3" dur="1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6" dur="10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0" dur="10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3" dur="10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8" dur="5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5" dur="10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9" dur="10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3" dur="1000"/>
                                        <p:tgtEl>
                                          <p:spTgt spid="2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7" dur="10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2" dur="500"/>
                                        <p:tgtEl>
                                          <p:spTgt spid="2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500"/>
                            </p:stCondLst>
                            <p:childTnLst>
                              <p:par>
                                <p:cTn id="25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6" dur="500"/>
                                        <p:tgtEl>
                                          <p:spTgt spid="2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1" dur="500"/>
                                        <p:tgtEl>
                                          <p:spTgt spid="2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0" name=""/>
          <p:cNvGrpSpPr/>
          <p:nvPr/>
        </p:nvGrpSpPr>
        <p:grpSpPr>
          <a:xfrm>
            <a:off x="1441440" y="1851120"/>
            <a:ext cx="995400" cy="1001520"/>
            <a:chOff x="1441440" y="1851120"/>
            <a:chExt cx="995400" cy="1001520"/>
          </a:xfrm>
        </p:grpSpPr>
        <p:grpSp>
          <p:nvGrpSpPr>
            <p:cNvPr id="2631" name=""/>
            <p:cNvGrpSpPr/>
            <p:nvPr/>
          </p:nvGrpSpPr>
          <p:grpSpPr>
            <a:xfrm>
              <a:off x="1503360" y="1944720"/>
              <a:ext cx="852480" cy="850680"/>
              <a:chOff x="1503360" y="1944720"/>
              <a:chExt cx="852480" cy="850680"/>
            </a:xfrm>
          </p:grpSpPr>
          <p:sp>
            <p:nvSpPr>
              <p:cNvPr id="2632" name=""/>
              <p:cNvSpPr/>
              <p:nvPr/>
            </p:nvSpPr>
            <p:spPr>
              <a:xfrm>
                <a:off x="1503360" y="1944720"/>
                <a:ext cx="852480" cy="85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677960" y="2116080"/>
                <a:ext cx="506520" cy="506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4" name=""/>
            <p:cNvSpPr/>
            <p:nvPr/>
          </p:nvSpPr>
          <p:spPr>
            <a:xfrm>
              <a:off x="1868400" y="2050920"/>
              <a:ext cx="125640" cy="12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868400" y="256536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311560" y="232236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854360" y="185112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68640" y="200808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82800" y="272736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68640" y="260820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441440" y="233856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542960" y="258300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1268280" y="3460680"/>
            <a:ext cx="1325520" cy="1339920"/>
            <a:chOff x="1268280" y="3460680"/>
            <a:chExt cx="1325520" cy="1339920"/>
          </a:xfrm>
        </p:grpSpPr>
        <p:sp>
          <p:nvSpPr>
            <p:cNvPr id="2644" name=""/>
            <p:cNvSpPr/>
            <p:nvPr/>
          </p:nvSpPr>
          <p:spPr>
            <a:xfrm>
              <a:off x="1349280" y="3535200"/>
              <a:ext cx="1197000" cy="119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5" name=""/>
            <p:cNvGrpSpPr/>
            <p:nvPr/>
          </p:nvGrpSpPr>
          <p:grpSpPr>
            <a:xfrm>
              <a:off x="1454040" y="3641760"/>
              <a:ext cx="982800" cy="982440"/>
              <a:chOff x="1454040" y="3641760"/>
              <a:chExt cx="982800" cy="982440"/>
            </a:xfrm>
          </p:grpSpPr>
          <p:grpSp>
            <p:nvGrpSpPr>
              <p:cNvPr id="2646" name=""/>
              <p:cNvGrpSpPr/>
              <p:nvPr/>
            </p:nvGrpSpPr>
            <p:grpSpPr>
              <a:xfrm>
                <a:off x="1519200" y="3706560"/>
                <a:ext cx="850680" cy="851040"/>
                <a:chOff x="1519200" y="3706560"/>
                <a:chExt cx="850680" cy="85104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1519200" y="3706560"/>
                  <a:ext cx="850680" cy="85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1692000" y="3878280"/>
                  <a:ext cx="506520" cy="506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9" name=""/>
              <p:cNvSpPr/>
              <p:nvPr/>
            </p:nvSpPr>
            <p:spPr>
              <a:xfrm>
                <a:off x="1896840" y="4327560"/>
                <a:ext cx="12564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1868400" y="3827520"/>
                <a:ext cx="12528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154240" y="4398840"/>
                <a:ext cx="12528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168280" y="3770280"/>
                <a:ext cx="12564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311200" y="4084560"/>
                <a:ext cx="12564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868400" y="3641760"/>
                <a:ext cx="12528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568160" y="3770280"/>
                <a:ext cx="12564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454040" y="4070160"/>
                <a:ext cx="125280" cy="125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554120" y="4384440"/>
                <a:ext cx="125280" cy="125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911240" y="4498920"/>
                <a:ext cx="12528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9" name=""/>
            <p:cNvSpPr/>
            <p:nvPr/>
          </p:nvSpPr>
          <p:spPr>
            <a:xfrm>
              <a:off x="2468520" y="409716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876320" y="3460680"/>
              <a:ext cx="12564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925640" y="467532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268280" y="408312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297160" y="363996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290680" y="449748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468440" y="453240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6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667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8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9" name=""/>
          <p:cNvSpPr/>
          <p:nvPr/>
        </p:nvSpPr>
        <p:spPr>
          <a:xfrm>
            <a:off x="4475160" y="7365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roup 7 elements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even electr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utermost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720800" y="7700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84360" y="2171880"/>
            <a:ext cx="40608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84360" y="3936960"/>
            <a:ext cx="40608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2990880" y="2568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990880" y="21366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995560" y="4330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2995560" y="3898800"/>
            <a:ext cx="93672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191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4475160" y="2200320"/>
            <a:ext cx="453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se atoms need one extra electrons for a complete outer shell and form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1- i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y does reactivity increase going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up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roup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incoming electrons are pulled more strongly into shells that are closer to the nucleus.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15480" y="-1800"/>
            <a:ext cx="5915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Group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2" dur="indefinite" restart="never" nodeType="tmRoot">
          <p:childTnLst>
            <p:seq>
              <p:cTn id="2583" dur="indefinite" nodeType="mainSeq">
                <p:childTnLst>
                  <p:par>
                    <p:cTn id="2584" fill="hold">
                      <p:stCondLst>
                        <p:cond delay="0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8" dur="10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2" dur="10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5" dur="10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9" dur="10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2" dur="10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7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500"/>
                            </p:stCondLst>
                            <p:childTnLst>
                              <p:par>
                                <p:cTn id="2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4" dur="10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8" dur="10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2" dur="10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6" dur="10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1" dur="500"/>
                                        <p:tgtEl>
                                          <p:spTgt spid="2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2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2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0" name=""/>
          <p:cNvGrpSpPr/>
          <p:nvPr/>
        </p:nvGrpSpPr>
        <p:grpSpPr>
          <a:xfrm>
            <a:off x="1476360" y="2871720"/>
            <a:ext cx="982800" cy="988920"/>
            <a:chOff x="1476360" y="2871720"/>
            <a:chExt cx="982800" cy="988920"/>
          </a:xfrm>
        </p:grpSpPr>
        <p:grpSp>
          <p:nvGrpSpPr>
            <p:cNvPr id="2681" name=""/>
            <p:cNvGrpSpPr/>
            <p:nvPr/>
          </p:nvGrpSpPr>
          <p:grpSpPr>
            <a:xfrm>
              <a:off x="1539720" y="2943360"/>
              <a:ext cx="852480" cy="850680"/>
              <a:chOff x="1539720" y="2943360"/>
              <a:chExt cx="852480" cy="850680"/>
            </a:xfrm>
          </p:grpSpPr>
          <p:sp>
            <p:nvSpPr>
              <p:cNvPr id="2682" name=""/>
              <p:cNvSpPr/>
              <p:nvPr/>
            </p:nvSpPr>
            <p:spPr>
              <a:xfrm>
                <a:off x="1539720" y="2943360"/>
                <a:ext cx="852480" cy="85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1714320" y="3114720"/>
                <a:ext cx="506520" cy="506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4" name=""/>
            <p:cNvSpPr/>
            <p:nvPr/>
          </p:nvSpPr>
          <p:spPr>
            <a:xfrm>
              <a:off x="1919160" y="3564000"/>
              <a:ext cx="12564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890720" y="3063960"/>
              <a:ext cx="12528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76560" y="363528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90600" y="300672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333520" y="3321000"/>
              <a:ext cx="12564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890720" y="287172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590840" y="300672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476360" y="3306600"/>
              <a:ext cx="12528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576440" y="362124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933560" y="373536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4" name=""/>
          <p:cNvGrpSpPr/>
          <p:nvPr/>
        </p:nvGrpSpPr>
        <p:grpSpPr>
          <a:xfrm>
            <a:off x="1332000" y="4508640"/>
            <a:ext cx="1319040" cy="1339560"/>
            <a:chOff x="1332000" y="4508640"/>
            <a:chExt cx="1319040" cy="1339560"/>
          </a:xfrm>
        </p:grpSpPr>
        <p:sp>
          <p:nvSpPr>
            <p:cNvPr id="2695" name=""/>
            <p:cNvSpPr/>
            <p:nvPr/>
          </p:nvSpPr>
          <p:spPr>
            <a:xfrm>
              <a:off x="1392120" y="4575240"/>
              <a:ext cx="1197000" cy="119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6" name=""/>
            <p:cNvGrpSpPr/>
            <p:nvPr/>
          </p:nvGrpSpPr>
          <p:grpSpPr>
            <a:xfrm>
              <a:off x="1496880" y="4672080"/>
              <a:ext cx="982440" cy="982440"/>
              <a:chOff x="1496880" y="4672080"/>
              <a:chExt cx="982440" cy="982440"/>
            </a:xfrm>
          </p:grpSpPr>
          <p:grpSp>
            <p:nvGrpSpPr>
              <p:cNvPr id="2697" name=""/>
              <p:cNvGrpSpPr/>
              <p:nvPr/>
            </p:nvGrpSpPr>
            <p:grpSpPr>
              <a:xfrm>
                <a:off x="1560240" y="4736880"/>
                <a:ext cx="852480" cy="851040"/>
                <a:chOff x="1560240" y="4736880"/>
                <a:chExt cx="852480" cy="851040"/>
              </a:xfrm>
            </p:grpSpPr>
            <p:sp>
              <p:nvSpPr>
                <p:cNvPr id="2698" name=""/>
                <p:cNvSpPr/>
                <p:nvPr/>
              </p:nvSpPr>
              <p:spPr>
                <a:xfrm>
                  <a:off x="1560240" y="4736880"/>
                  <a:ext cx="852480" cy="85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1734840" y="4908600"/>
                  <a:ext cx="506520" cy="506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0" name=""/>
              <p:cNvSpPr/>
              <p:nvPr/>
            </p:nvSpPr>
            <p:spPr>
              <a:xfrm>
                <a:off x="1939680" y="5357880"/>
                <a:ext cx="12528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911240" y="4857840"/>
                <a:ext cx="12528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196720" y="5429160"/>
                <a:ext cx="12564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211120" y="4800600"/>
                <a:ext cx="12564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354040" y="5114880"/>
                <a:ext cx="12528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911240" y="4672080"/>
                <a:ext cx="12528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611000" y="4800600"/>
                <a:ext cx="12564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496880" y="5100480"/>
                <a:ext cx="125280" cy="125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596960" y="5414760"/>
                <a:ext cx="125280" cy="125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954080" y="5529240"/>
                <a:ext cx="125280" cy="12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0" name=""/>
            <p:cNvSpPr/>
            <p:nvPr/>
          </p:nvSpPr>
          <p:spPr>
            <a:xfrm>
              <a:off x="1960560" y="572292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525760" y="512928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346480" y="554364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360520" y="471492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2000" y="5129280"/>
              <a:ext cx="12528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903320" y="450864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488960" y="4700520"/>
              <a:ext cx="12564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496880" y="5543640"/>
              <a:ext cx="12564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8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719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0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1" name=""/>
          <p:cNvSpPr/>
          <p:nvPr/>
        </p:nvSpPr>
        <p:spPr>
          <a:xfrm>
            <a:off x="4475160" y="73656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roup 0 (or 8) elements all have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complete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et of electrons in the outermost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709560" y="147960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709560" y="31719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709560" y="49467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720800" y="77004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2997360" y="192096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2997360" y="148896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2997360" y="357840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2997360" y="314640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997360" y="534024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8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2997360" y="4908600"/>
            <a:ext cx="936360" cy="454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4191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3" name=""/>
          <p:cNvGrpSpPr/>
          <p:nvPr/>
        </p:nvGrpSpPr>
        <p:grpSpPr>
          <a:xfrm>
            <a:off x="1730520" y="1407960"/>
            <a:ext cx="506160" cy="625680"/>
            <a:chOff x="1730520" y="1407960"/>
            <a:chExt cx="506160" cy="625680"/>
          </a:xfrm>
        </p:grpSpPr>
        <p:sp>
          <p:nvSpPr>
            <p:cNvPr id="2734" name=""/>
            <p:cNvSpPr/>
            <p:nvPr/>
          </p:nvSpPr>
          <p:spPr>
            <a:xfrm>
              <a:off x="1730520" y="1459080"/>
              <a:ext cx="506160" cy="50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935000" y="1908000"/>
              <a:ext cx="125640" cy="12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906560" y="1407960"/>
              <a:ext cx="125280" cy="12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7" name=""/>
          <p:cNvSpPr/>
          <p:nvPr/>
        </p:nvSpPr>
        <p:spPr>
          <a:xfrm>
            <a:off x="4481640" y="2205000"/>
            <a:ext cx="47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y are these elements so unrea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oup 0 atoms do not need to lose or gain any electrons to complete their outer shells which means they are unre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oup 0 elements are called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noble (or inert) gas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23400" y="1080"/>
            <a:ext cx="5627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 in Grou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7" dur="10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1" dur="10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4" dur="10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7" dur="1000"/>
                                        <p:tgtEl>
                                          <p:spTgt spid="2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1" dur="10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4" dur="10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7" dur="10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2" dur="5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2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9" dur="1000"/>
                                        <p:tgtEl>
                                          <p:spTgt spid="2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3" dur="1000"/>
                                        <p:tgtEl>
                                          <p:spTgt spid="2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7" dur="10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1" dur="1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5" dur="10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9" dur="10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2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9" dur="500"/>
                                        <p:tgtEl>
                                          <p:spTgt spid="2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2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"/>
          <p:cNvSpPr/>
          <p:nvPr/>
        </p:nvSpPr>
        <p:spPr>
          <a:xfrm>
            <a:off x="758880" y="236520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8531280" y="2495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758880" y="2952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758880" y="3409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7588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588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588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7588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1216080" y="2952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16732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21304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1216080" y="3409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25876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0448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35020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39592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4164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8736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53308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7880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2452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7024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6168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80740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12160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85312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16732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1304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Z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25876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0448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5020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39592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8736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53308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57880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62452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024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71596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12160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6168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44164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12160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21304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25876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0448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5020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9592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44164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53308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57880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2452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7024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71596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76168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6732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80740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48736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2160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21304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25876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0448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5020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9592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44164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53308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57880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6732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4873680" y="522936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6245280" y="3409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159680" y="3409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7159680" y="2952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616880" y="2952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616880" y="3409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8074080" y="3409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8074080" y="2952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8531280" y="2952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8531280" y="3409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8531280" y="47815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80740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6702480" y="34099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8531280" y="43243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245280" y="2952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702480" y="29527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59680" y="3867120"/>
            <a:ext cx="457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216080" y="342252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6696000" y="295920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3840120" y="1271520"/>
            <a:ext cx="11448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 8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865680" y="1268280"/>
            <a:ext cx="8506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852720" y="1268280"/>
            <a:ext cx="10796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 8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8061480" y="340992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746280" y="386712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851280" y="1268280"/>
            <a:ext cx="14400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, 8, 8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132000" y="126828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132000" y="126828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132000" y="126828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132000" y="1268280"/>
            <a:ext cx="457200" cy="45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5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836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7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9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hat is the electron arran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28404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631800" y="741240"/>
            <a:ext cx="81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electron arrangement in this element’s ato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8088480" y="1685880"/>
            <a:ext cx="40608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635960" y="16858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7176960" y="16858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732720" y="169236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6265800" y="1685880"/>
            <a:ext cx="40644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224000" y="167328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777960" y="1673280"/>
            <a:ext cx="406440" cy="39348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8545680" y="1682640"/>
            <a:ext cx="406080" cy="393840"/>
          </a:xfrm>
          <a:prstGeom prst="ellipse">
            <a:avLst/>
          </a:prstGeom>
          <a:solidFill>
            <a:srgbClr val="9900cc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33200" y="29973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127080" y="34545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33200" y="3898800"/>
            <a:ext cx="40644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27080" y="4359240"/>
            <a:ext cx="40644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33200" y="48261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33200" y="5267160"/>
            <a:ext cx="406440" cy="39384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33200" y="2459160"/>
            <a:ext cx="406440" cy="393480"/>
          </a:xfrm>
          <a:prstGeom prst="ellipse">
            <a:avLst/>
          </a:prstGeom>
          <a:solidFill>
            <a:srgbClr val="010066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4" dur="indefinite" restart="never" nodeType="tmRoot">
          <p:childTnLst>
            <p:seq>
              <p:cTn id="2715" dur="indefinite" nodeType="mainSeq">
                <p:childTnLst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8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500"/>
                            </p:stCondLst>
                            <p:childTnLst>
                              <p:par>
                                <p:cTn id="273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9" dur="10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4" dur="500" fill="hold"/>
                                        <p:tgtEl>
                                          <p:spTgt spid="2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2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7" fill="hold">
                            <p:stCondLst>
                              <p:cond delay="500"/>
                            </p:stCondLst>
                            <p:childTnLst>
                              <p:par>
                                <p:cTn id="27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10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1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4" fill="hold">
                            <p:stCondLst>
                              <p:cond delay="500"/>
                            </p:stCondLst>
                            <p:childTnLst>
                              <p:par>
                                <p:cTn id="27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7" dur="500" fill="hold"/>
                                        <p:tgtEl>
                                          <p:spTgt spid="2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2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3" dur="1000"/>
                                        <p:tgtEl>
                                          <p:spTgt spid="2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fill="hold">
                      <p:stCondLst>
                        <p:cond delay="indefinite"/>
                      </p:stCondLst>
                      <p:childTnLst>
                        <p:par>
                          <p:cTn id="2775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500"/>
                            </p:stCondLst>
                            <p:childTnLst>
                              <p:par>
                                <p:cTn id="27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0" dur="10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ifferent types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7" name="ShockwaveFlash1"/>
          <p:cNvGraphicFramePr/>
          <p:nvPr/>
        </p:nvGraphicFramePr>
        <p:xfrm>
          <a:off x="527040" y="755640"/>
          <a:ext cx="80773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755640"/>
                    <a:ext cx="8077320" cy="5410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59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860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61" name="" descr=""/>
            <p:cNvPicPr/>
            <p:nvPr/>
          </p:nvPicPr>
          <p:blipFill>
            <a:blip r:embed="rId3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2" name=""/>
          <p:cNvGrpSpPr/>
          <p:nvPr/>
        </p:nvGrpSpPr>
        <p:grpSpPr>
          <a:xfrm>
            <a:off x="7304040" y="115920"/>
            <a:ext cx="576360" cy="576360"/>
            <a:chOff x="7304040" y="115920"/>
            <a:chExt cx="576360" cy="576360"/>
          </a:xfrm>
        </p:grpSpPr>
        <p:pic>
          <p:nvPicPr>
            <p:cNvPr id="2863" name="" descr=""/>
            <p:cNvPicPr/>
            <p:nvPr/>
          </p:nvPicPr>
          <p:blipFill>
            <a:blip r:embed="rId4"/>
            <a:stretch/>
          </p:blipFill>
          <p:spPr>
            <a:xfrm>
              <a:off x="7364520" y="17136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4" name=""/>
            <p:cNvSpPr/>
            <p:nvPr/>
          </p:nvSpPr>
          <p:spPr>
            <a:xfrm>
              <a:off x="7304040" y="115920"/>
              <a:ext cx="576360" cy="57636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348680" y="168120"/>
              <a:ext cx="468000" cy="468360"/>
            </a:xfrm>
            <a:prstGeom prst="ellipse">
              <a:avLst/>
            </a:prstGeom>
            <a:noFill/>
            <a:ln w="255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eriodic table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7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868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69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870" name="ShockwaveFlash1"/>
          <p:cNvGraphicFramePr/>
          <p:nvPr/>
        </p:nvGraphicFramePr>
        <p:xfrm>
          <a:off x="250920" y="765000"/>
          <a:ext cx="8642160" cy="532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8642160" cy="532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72" name=""/>
          <p:cNvGrpSpPr/>
          <p:nvPr/>
        </p:nvGrpSpPr>
        <p:grpSpPr>
          <a:xfrm>
            <a:off x="7304040" y="115920"/>
            <a:ext cx="576360" cy="576360"/>
            <a:chOff x="7304040" y="115920"/>
            <a:chExt cx="576360" cy="576360"/>
          </a:xfrm>
        </p:grpSpPr>
        <p:pic>
          <p:nvPicPr>
            <p:cNvPr id="2873" name="" descr=""/>
            <p:cNvPicPr/>
            <p:nvPr/>
          </p:nvPicPr>
          <p:blipFill>
            <a:blip r:embed="rId4"/>
            <a:stretch/>
          </p:blipFill>
          <p:spPr>
            <a:xfrm>
              <a:off x="7364520" y="17136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4" name=""/>
            <p:cNvSpPr/>
            <p:nvPr/>
          </p:nvSpPr>
          <p:spPr>
            <a:xfrm>
              <a:off x="7304040" y="115920"/>
              <a:ext cx="576360" cy="57636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348680" y="168120"/>
              <a:ext cx="468000" cy="468360"/>
            </a:xfrm>
            <a:prstGeom prst="ellipse">
              <a:avLst/>
            </a:prstGeom>
            <a:noFill/>
            <a:ln w="255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"/>
          <p:cNvSpPr/>
          <p:nvPr/>
        </p:nvSpPr>
        <p:spPr>
          <a:xfrm>
            <a:off x="971640" y="838080"/>
            <a:ext cx="4968720" cy="71928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907920" y="2062080"/>
            <a:ext cx="252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906480" y="28544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900000" y="447372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925560" y="361008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1314360" y="1846440"/>
            <a:ext cx="635328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Elements and atomic number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1314360" y="2638440"/>
            <a:ext cx="455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Arranging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392120" y="4218120"/>
            <a:ext cx="4403880" cy="68076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Electron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376280" y="3402000"/>
            <a:ext cx="4708440" cy="6764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Patterns of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6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887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8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9" name=""/>
          <p:cNvSpPr/>
          <p:nvPr/>
        </p:nvSpPr>
        <p:spPr>
          <a:xfrm>
            <a:off x="900000" y="53085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1392120" y="5052960"/>
            <a:ext cx="4187880" cy="681120"/>
          </a:xfrm>
          <a:prstGeom prst="roundRect">
            <a:avLst>
              <a:gd name="adj" fmla="val 43579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acher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roperties and 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00120" y="2997360"/>
          <a:ext cx="6096240" cy="2232000"/>
        </p:xfrm>
        <a:graphic>
          <a:graphicData uri="http://schemas.openxmlformats.org/drawingml/2006/table">
            <a:tbl>
              <a:tblPr/>
              <a:tblGrid>
                <a:gridCol w="2032200"/>
                <a:gridCol w="1523880"/>
                <a:gridCol w="254016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m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43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739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ientists discovered that the properties of elements seemed to depend on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atomic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676520"/>
            <a:ext cx="62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atomic number of an el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2395440"/>
            <a:ext cx="62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toms contain three types of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particl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6358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re are these particles found in an at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747720" y="344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446040" y="1738440"/>
            <a:ext cx="8229600" cy="3355920"/>
            <a:chOff x="446040" y="1738440"/>
            <a:chExt cx="8229600" cy="3355920"/>
          </a:xfrm>
        </p:grpSpPr>
        <p:sp>
          <p:nvSpPr>
            <p:cNvPr id="2893" name=""/>
            <p:cNvSpPr/>
            <p:nvPr/>
          </p:nvSpPr>
          <p:spPr>
            <a:xfrm>
              <a:off x="446040" y="173844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46040" y="2351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46040" y="28083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460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460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460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460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903240" y="2351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3604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8176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903240" y="28083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22748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7320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1892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6464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1036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5608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0180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4752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9324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3896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040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7612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9032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82184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13604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8176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Z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2748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7320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1892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6464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5608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0180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752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9324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3896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8468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9032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3040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1036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9032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18176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2748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7320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1892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6464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1036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0180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4752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9324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3896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8468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3040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3604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612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5608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9032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18176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2748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7320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1892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6464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1036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0180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4752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3604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60840" y="4637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932440" y="28083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846840" y="28083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846840" y="2351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04040" y="2351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304040" y="28083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761240" y="28083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761240" y="2351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218440" y="2351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218440" y="28083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218440" y="4179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7612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389640" y="28083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218440" y="37227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8218440" y="18939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932440" y="2351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389640" y="23511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846840" y="32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932440" y="23511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932440" y="28083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389640" y="28083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846840" y="3265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304040" y="3722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761240" y="41799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389640" y="32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846840" y="37227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304040" y="41799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218440" y="189396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932440" y="23511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932440" y="2808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389640" y="2808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389640" y="32655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1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992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3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15840" y="1080"/>
            <a:ext cx="461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5" name=""/>
          <p:cNvGrpSpPr/>
          <p:nvPr/>
        </p:nvGrpSpPr>
        <p:grpSpPr>
          <a:xfrm>
            <a:off x="230040" y="1332000"/>
            <a:ext cx="8677080" cy="4181040"/>
            <a:chOff x="230040" y="1332000"/>
            <a:chExt cx="8677080" cy="4181040"/>
          </a:xfrm>
        </p:grpSpPr>
        <p:sp>
          <p:nvSpPr>
            <p:cNvPr id="2996" name=""/>
            <p:cNvSpPr/>
            <p:nvPr/>
          </p:nvSpPr>
          <p:spPr>
            <a:xfrm>
              <a:off x="230040" y="1332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30040" y="20952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30040" y="26647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3004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3004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3004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3004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12080" y="20952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19412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67616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12080" y="26647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15820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64024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312228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360432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08636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56840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05080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53284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01488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49692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46100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94304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1208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2508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19412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67616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Z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15820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64024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12228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60432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56840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05080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53284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01488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49692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7896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1208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46100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08636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1208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67616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15820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64024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12228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60432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08636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05080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53284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01488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49692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97896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46100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19412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94304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56840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1208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67616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15820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64024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312228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60432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08636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05080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53284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19412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568400" y="49435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014880" y="26647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978960" y="26647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978960" y="20952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461000" y="20952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461000" y="26647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943040" y="26647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943040" y="20952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425080" y="20952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425080" y="26647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425080" y="43740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94304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496920" y="26647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425080" y="380412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425080" y="152568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014880" y="20952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496920" y="20952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978960" y="3234600"/>
              <a:ext cx="482040" cy="56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014880" y="2095200"/>
              <a:ext cx="0" cy="56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014880" y="2664720"/>
              <a:ext cx="48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496920" y="2664720"/>
              <a:ext cx="0" cy="56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978960" y="3234600"/>
              <a:ext cx="0" cy="56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461000" y="3804120"/>
              <a:ext cx="0" cy="56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943040" y="4374000"/>
              <a:ext cx="0" cy="56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496920" y="3234600"/>
              <a:ext cx="48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978960" y="3804120"/>
              <a:ext cx="48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461000" y="4374000"/>
              <a:ext cx="48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425080" y="1525680"/>
              <a:ext cx="0" cy="341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0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3091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2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120" y="-360"/>
            <a:ext cx="3485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hat is atomic nu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762440"/>
            <a:ext cx="770580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omic number = the number of protons in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53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1978200" y="1708200"/>
            <a:ext cx="5029200" cy="1828800"/>
            <a:chOff x="1978200" y="1708200"/>
            <a:chExt cx="5029200" cy="1828800"/>
          </a:xfrm>
        </p:grpSpPr>
        <p:sp>
          <p:nvSpPr>
            <p:cNvPr id="156" name=""/>
            <p:cNvSpPr/>
            <p:nvPr/>
          </p:nvSpPr>
          <p:spPr>
            <a:xfrm>
              <a:off x="4284720" y="2511360"/>
              <a:ext cx="37620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8000" y="2233440"/>
              <a:ext cx="374760" cy="35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10080" y="2435400"/>
              <a:ext cx="363600" cy="36036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70320" y="2319480"/>
              <a:ext cx="363600" cy="36036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8200" y="1708200"/>
              <a:ext cx="502920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60720" y="1735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99160" y="32846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581360" y="3981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7120" y="1297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11811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neu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2276640"/>
            <a:ext cx="1656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7398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are the particles in this helium at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54928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atomic number of heli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4209000">
            <a:off x="4339800" y="3257280"/>
            <a:ext cx="1297080" cy="360360"/>
          </a:xfrm>
          <a:prstGeom prst="leftArrow">
            <a:avLst>
              <a:gd name="adj1" fmla="val 50000"/>
              <a:gd name="adj2" fmla="val 62923"/>
            </a:avLst>
          </a:prstGeom>
          <a:solidFill>
            <a:srgbClr val="9900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1355600">
            <a:off x="1879200" y="1498320"/>
            <a:ext cx="1150920" cy="360360"/>
          </a:xfrm>
          <a:prstGeom prst="leftArrow">
            <a:avLst>
              <a:gd name="adj1" fmla="val 50000"/>
              <a:gd name="adj2" fmla="val 55832"/>
            </a:avLst>
          </a:prstGeom>
          <a:solidFill>
            <a:srgbClr val="9900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 rot="19852200">
            <a:off x="4803480" y="1729800"/>
            <a:ext cx="1593720" cy="360360"/>
          </a:xfrm>
          <a:prstGeom prst="leftArrow">
            <a:avLst>
              <a:gd name="adj1" fmla="val 50000"/>
              <a:gd name="adj2" fmla="val 77313"/>
            </a:avLst>
          </a:prstGeom>
          <a:solidFill>
            <a:srgbClr val="9900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8160"/>
            <a:ext cx="6372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tomic number and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175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73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toms of elements contain equal numbers of protons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170080"/>
            <a:ext cx="777708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oms of elements have no charge, they are neut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8591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charge on a fluorine at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3449520"/>
            <a:ext cx="1368360" cy="1871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871640"/>
              <a:gd name="textAreaBottom" fmla="*/ 1805040 h 1871640"/>
            </a:gdLst>
            <a:ahLst/>
            <a:rect l="textAreaLeft" t="textAreaTop" r="textAreaRight" b="textAreaBottom"/>
            <a:pathLst>
              <a:path w="21600" h="29542">
                <a:moveTo>
                  <a:pt x="3600" y="0"/>
                </a:moveTo>
                <a:arcTo wR="3600" hR="3600" stAng="16200000" swAng="-5400000"/>
                <a:lnTo>
                  <a:pt x="0" y="25942"/>
                </a:lnTo>
                <a:arcTo wR="3600" hR="3600" stAng="10800000" swAng="-5400000"/>
                <a:lnTo>
                  <a:pt x="18000" y="29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516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ow are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number of electr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atomic number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related in a neutral at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3449520"/>
            <a:ext cx="244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9 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9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10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8560" y="3449520"/>
            <a:ext cx="244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charge = +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charge = -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charge = 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00cc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4803840"/>
            <a:ext cx="3024360" cy="52056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tal charge =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27640" y="5986440"/>
            <a:ext cx="3097080" cy="45972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the sa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5890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ow does this affect the charge of such ato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960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71640" y="838080"/>
            <a:ext cx="4968720" cy="71928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7920" y="2062080"/>
            <a:ext cx="252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6480" y="28544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447372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5560" y="361008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14360" y="1846440"/>
            <a:ext cx="635328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10066"/>
                </a:solidFill>
                <a:latin typeface="Arial"/>
              </a:rPr>
              <a:t>Elements and atomic number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14360" y="2638440"/>
            <a:ext cx="4552920" cy="647640"/>
          </a:xfrm>
          <a:prstGeom prst="roundRect">
            <a:avLst>
              <a:gd name="adj" fmla="val 43579"/>
            </a:avLst>
          </a:prstGeom>
          <a:solidFill>
            <a:srgbClr val="ff3300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ranging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92120" y="4218120"/>
            <a:ext cx="4403880" cy="68076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lectron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6280" y="3402000"/>
            <a:ext cx="4780080" cy="6764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atterns of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00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900000" y="53085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92120" y="5052960"/>
            <a:ext cx="4187880" cy="68112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Teacher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tomic number and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49120" y="2708280"/>
            <a:ext cx="8667720" cy="460440"/>
            <a:chOff x="249120" y="2708280"/>
            <a:chExt cx="8667720" cy="460440"/>
          </a:xfrm>
        </p:grpSpPr>
        <p:sp>
          <p:nvSpPr>
            <p:cNvPr id="206" name=""/>
            <p:cNvSpPr/>
            <p:nvPr/>
          </p:nvSpPr>
          <p:spPr>
            <a:xfrm>
              <a:off x="845964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120" y="27082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8908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0204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4628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9240" y="27082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16440" y="270828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3084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9880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600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8804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4524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1320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7040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44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7364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928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7792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1600" y="2711520"/>
              <a:ext cx="4572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508720" y="4221000"/>
            <a:ext cx="25923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ctive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32720" y="3068280"/>
            <a:ext cx="2016000" cy="1152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292640"/>
            <a:ext cx="280368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reactiv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899640" y="3068640"/>
            <a:ext cx="1584360" cy="122400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484360" y="3068640"/>
            <a:ext cx="2158920" cy="122400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484360" y="3122640"/>
            <a:ext cx="5794560" cy="118728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52960" y="1628640"/>
            <a:ext cx="2514600" cy="432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ctiv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140000" y="2060640"/>
            <a:ext cx="431640" cy="7207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2060640"/>
            <a:ext cx="3240000" cy="6840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5280" y="2060640"/>
            <a:ext cx="4176720" cy="7207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1200" y="82440"/>
            <a:ext cx="360360" cy="360360"/>
            <a:chOff x="241200" y="82440"/>
            <a:chExt cx="360360" cy="360360"/>
          </a:xfrm>
        </p:grpSpPr>
        <p:sp>
          <p:nvSpPr>
            <p:cNvPr id="236" name=""/>
            <p:cNvSpPr/>
            <p:nvPr/>
          </p:nvSpPr>
          <p:spPr>
            <a:xfrm>
              <a:off x="241200" y="82440"/>
              <a:ext cx="360360" cy="360360"/>
            </a:xfrm>
            <a:prstGeom prst="ellipse">
              <a:avLst/>
            </a:prstGeom>
            <a:solidFill>
              <a:srgbClr val="01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267840" y="108000"/>
              <a:ext cx="30888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330120" y="836640"/>
            <a:ext cx="236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7398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scientists arranged elements in order of increasing atomic number they found patterns in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1396800" y="3097080"/>
            <a:ext cx="5400360" cy="111600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5003280" y="3068280"/>
            <a:ext cx="1800360" cy="1152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7:12:25Z</dcterms:created>
  <dc:creator>Boardworks Ltd</dc:creator>
  <dc:description/>
  <dc:language>en-US</dc:language>
  <cp:lastModifiedBy>Cleary</cp:lastModifiedBy>
  <dcterms:modified xsi:type="dcterms:W3CDTF">2004-03-16T16:50:22Z</dcterms:modified>
  <cp:revision>119</cp:revision>
  <dc:subject/>
  <dc:title>No Slide Title</dc:title>
</cp:coreProperties>
</file>